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B3B-C5DB-4F02-A44E-C68AB08D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E21-D77A-49BD-8B00-35005F07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098-006C-41B4-A2FE-DC4BC455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EA5-F61F-4F4C-8C12-B1D0D931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A9E-D796-49FB-ACC7-885D46B0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37E-C1CF-4C62-80AD-56F8E7EE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7DA-F5C5-420F-BD3D-3BAC052B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790-7302-4327-B436-1AA62CF4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DC0-4500-4A46-9E5A-75D42605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04A-E00E-41AF-8807-F42AE289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608-E937-462A-B02C-010468BC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D14-B909-4F48-A868-F93978FC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E588-1E19-4CFB-A222-6C1F14B8AA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The Experiment of kHz laser Ranging with Nanosecond Pulses at Shangha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4653000"/>
            <a:ext cx="8569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hanghai  Observatory, Chinese Academy of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hanghai, Ch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0600" y="3357720"/>
            <a:ext cx="685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Zhang Zhongping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 Yang Fumin, Chen Jup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Zhang Haifeng, Wu Zhibo, Qin Si, Li 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thod of backscatter avo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537336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&lt; 100 us between Receive/ Transmit, Laser Firing w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shifted by (120 u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9368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407988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14400" y="21765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95680" y="21765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590920" y="21765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172200" y="21765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914400" y="3312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11360" y="331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283360" y="331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124080" y="1890720"/>
            <a:ext cx="0" cy="142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012080" y="341460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462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48080" y="200484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1700280"/>
            <a:ext cx="0" cy="12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15200" y="3414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scatter avo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83000" y="4616280"/>
            <a:ext cx="19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er F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0440" y="45878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56080" y="4605480"/>
            <a:ext cx="32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ion return pu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828800" y="4075200"/>
            <a:ext cx="158256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437000"/>
            <a:ext cx="30481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/transmit overlap occurr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1000" y="1197000"/>
            <a:ext cx="3888000" cy="4762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19476"/>
              <a:gd name="adj5" fmla="val 262916"/>
              <a:gd name="adj6" fmla="val -376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ed Epoch Time of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19360" y="371484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593440" y="2635200"/>
            <a:ext cx="2556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19360" y="333360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0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11360" y="452448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24440" y="2095560"/>
            <a:ext cx="0" cy="81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770280" y="1378080"/>
            <a:ext cx="1154160" cy="89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3080" y="665280"/>
            <a:ext cx="907092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kHz Control Software is designed and built by Shanghai Station. There are two computers used in the experiment in Windows 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omputer is used for communication  with ET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ing start and stop events, and matching  them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, displaying residual (O-C), storing data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computer  is used for tracking and controll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ing laser firing, 1kHz range gating, receiv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mit overlap avoid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the experiment, two computers  communi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ach other via RS232.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10152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kHz Control Softwa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lock diagram of one kHz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11280" y="765000"/>
            <a:ext cx="8208720" cy="4236840"/>
            <a:chOff x="611280" y="765000"/>
            <a:chExt cx="8208720" cy="4236840"/>
          </a:xfrm>
        </p:grpSpPr>
        <p:sp>
          <p:nvSpPr>
            <p:cNvPr id="152" name=""/>
            <p:cNvSpPr/>
            <p:nvPr/>
          </p:nvSpPr>
          <p:spPr>
            <a:xfrm>
              <a:off x="611280" y="765000"/>
              <a:ext cx="685800" cy="423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L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2000" y="2321280"/>
              <a:ext cx="431640" cy="6919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63640" y="851400"/>
              <a:ext cx="1119240" cy="4063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0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1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indow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82880" y="1500120"/>
              <a:ext cx="11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82880" y="929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ial #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25880" y="1110960"/>
              <a:ext cx="1143000" cy="605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82880" y="2148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82880" y="1716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ial #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35160" y="214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25880" y="1802520"/>
              <a:ext cx="1143000" cy="69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G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68880" y="1975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9600" y="1716120"/>
              <a:ext cx="1143000" cy="345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68880" y="2321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9600" y="2235240"/>
              <a:ext cx="1143000" cy="345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-S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82880" y="3099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82880" y="2754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/O c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25880" y="2754000"/>
              <a:ext cx="1841400" cy="691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ing/Tr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82880" y="3877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82880" y="33588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ial #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25880" y="3531960"/>
              <a:ext cx="1409760" cy="604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Meteo p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2880" y="474264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6560" y="43102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ial #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25880" y="4310280"/>
              <a:ext cx="2666880" cy="691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4 3.0G 512M  Windo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16800" y="3618360"/>
              <a:ext cx="1600200" cy="51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ven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19760" y="4137120"/>
              <a:ext cx="947880" cy="691920"/>
            </a:xfrm>
            <a:custGeom>
              <a:avLst/>
              <a:gdLst>
                <a:gd name="textAreaLeft" fmla="*/ 272160 w 947880"/>
                <a:gd name="textAreaRight" fmla="*/ 811800 w 947880"/>
                <a:gd name="textAreaTop" fmla="*/ 398520 h 691920"/>
                <a:gd name="textAreaBottom" fmla="*/ 59292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97680" y="309960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88400" y="309960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74000" y="31860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64360" y="3186000"/>
              <a:ext cx="7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68880" y="15429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68880" y="19756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96360" y="44290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551664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ime sequencing diagram of writing FI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68360" y="981000"/>
            <a:ext cx="8305920" cy="4237200"/>
            <a:chOff x="468360" y="981000"/>
            <a:chExt cx="8305920" cy="4237200"/>
          </a:xfrm>
        </p:grpSpPr>
        <p:sp>
          <p:nvSpPr>
            <p:cNvPr id="186" name=""/>
            <p:cNvSpPr/>
            <p:nvPr/>
          </p:nvSpPr>
          <p:spPr>
            <a:xfrm>
              <a:off x="468360" y="204804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73280" y="14382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306440" y="14382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67560" y="1819440"/>
              <a:ext cx="24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16480" y="204804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83160" y="1590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16680" y="1590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6960" y="981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r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82760" y="1209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r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30880" y="11336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o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68960" y="1438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o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91040" y="2962440"/>
              <a:ext cx="24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9640" y="319104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83160" y="2747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16680" y="2747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25960" y="2352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o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11760" y="2428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o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64600" y="2997360"/>
              <a:ext cx="24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88000" y="3213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77080" y="27813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2720" y="2421000"/>
              <a:ext cx="11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op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11360" y="319104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7040" y="2962440"/>
              <a:ext cx="24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363840" y="2733840"/>
              <a:ext cx="0" cy="4572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95640" y="4076640"/>
              <a:ext cx="4778640" cy="1141560"/>
            </a:xfrm>
            <a:prstGeom prst="borderCallout2">
              <a:avLst>
                <a:gd name="adj1" fmla="val 18750"/>
                <a:gd name="adj2" fmla="val -8333"/>
                <a:gd name="adj3" fmla="val 10013"/>
                <a:gd name="adj4" fmla="val -7009"/>
                <a:gd name="adj5" fmla="val -65092"/>
                <a:gd name="adj6" fmla="val -1262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t 100 expected epoch time of return    into FIFO once a 100ms in advance  to satisfy real-time control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156360" y="2781360"/>
              <a:ext cx="0" cy="4572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63840" y="31910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56360" y="3213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634920" y="3284640"/>
              <a:ext cx="245124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12240" y="2997360"/>
              <a:ext cx="24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0360" y="321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313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16000" y="62848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l-time tracking interface for tracking, fir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11280" y="96840"/>
            <a:ext cx="7993080" cy="5996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16200000">
            <a:off x="251280" y="152640"/>
            <a:ext cx="505080" cy="1008000"/>
          </a:xfrm>
          <a:prstGeom prst="wedgeRoundRectCallout">
            <a:avLst>
              <a:gd name="adj1" fmla="val -204175"/>
              <a:gd name="adj2" fmla="val 2399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eturn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996360" y="619200"/>
            <a:ext cx="576360" cy="1152720"/>
          </a:xfrm>
          <a:prstGeom prst="wedgeRoundRectCallout">
            <a:avLst>
              <a:gd name="adj1" fmla="val -8402"/>
              <a:gd name="adj2" fmla="val 13897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Arial"/>
              </a:rPr>
              <a:t>Firing,return match,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430920" y="3032280"/>
            <a:ext cx="649080" cy="1152720"/>
          </a:xfrm>
          <a:prstGeom prst="wedgeRoundRectCallout">
            <a:avLst>
              <a:gd name="adj1" fmla="val -109662"/>
              <a:gd name="adj2" fmla="val 1820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es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O-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7668360" y="2779920"/>
            <a:ext cx="865080" cy="1152720"/>
          </a:xfrm>
          <a:prstGeom prst="wedgeRoundRectCallout">
            <a:avLst>
              <a:gd name="adj1" fmla="val -108532"/>
              <a:gd name="adj2" fmla="val -369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eturn distribution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6021360"/>
            <a:ext cx="7561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nother computer’s real-time interface for recording start and stop events, displaying (O-C)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42920" y="198360"/>
            <a:ext cx="4860720" cy="4094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356000" y="2847960"/>
            <a:ext cx="4464000" cy="3533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9640" y="429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elected obs. data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19640" y="63752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ull obs. data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24000" y="43920"/>
            <a:ext cx="2737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ata Pre-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765000"/>
            <a:ext cx="3384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isplaying selected obs. data 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rocessing al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dvantage: fast, not influence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4869000"/>
            <a:ext cx="2158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ellite: Ste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Ma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3k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4k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28000" y="1484280"/>
            <a:ext cx="2016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ellite: Ajis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M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8k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90k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6877080" cy="5906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403280" y="6237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e-Processing sc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6842160" cy="5689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55640" y="59500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Real-time interface for Lageos r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4500720" y="4581360"/>
            <a:ext cx="30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64360" y="1125360"/>
            <a:ext cx="212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elli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geos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Sep.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0k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60k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80360" y="50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ali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684360" y="2131920"/>
          <a:ext cx="8064360" cy="3601800"/>
        </p:xfrm>
        <a:graphic>
          <a:graphicData uri="http://schemas.openxmlformats.org/drawingml/2006/table">
            <a:tbl>
              <a:tblPr/>
              <a:tblGrid>
                <a:gridCol w="1782360"/>
                <a:gridCol w="1970280"/>
                <a:gridCol w="1593720"/>
                <a:gridCol w="2718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KHz SL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outine SL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is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90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co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2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eos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k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250920" y="83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宋体"/>
              </a:rPr>
              <a:t>KHz SLR returns vs. Routine S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宋体"/>
              </a:rPr>
              <a:t>at Shanghai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110000"/>
              </a:lnSpc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The aim of the experiment is to test our design of kHz control syste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lnSpc>
                <a:spcPct val="11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Range Gate Generator 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lnSpc>
                <a:spcPct val="11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Event Ti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lnSpc>
                <a:spcPct val="11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Control software and data acqui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lnSpc>
                <a:spcPct val="11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Data processing 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2.     We are pleased to get the support from national natural science foundation in China to research on kHz SL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3.     We borrowed a kHz laser with long pulse width from North China Research Institute of Electro-Opt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4.    On Apr.26 2008, we successfully got returns from Ajisai satellite first time with kHz system. So far, the experiment has been done at ERS-2, Lageos etc. with 2mJ energy, 50ns pulse width las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89000"/>
            <a:ext cx="70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 kHz SLR experiment’s video (Ajisai, on May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91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96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560" y="404280"/>
            <a:ext cx="8713800" cy="603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e have successfully obtained returns from satellites (ajisai,stella,beaconC,ERS-2, Envisat, Lageos,etc.) by using a kHz laser with long pulse width. The experiment shows that 1 kHz control system works fine and promisefu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lan to purchase a kHz laser with short pulse width next year, and to start routine kHz ranging with high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68360" y="28526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Thank You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11640" y="404280"/>
            <a:ext cx="309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etition: 1KHz (1-10k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lse width:50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ergy per pulse: 2m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vergence: 6m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ode pumped oscil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: 52*17*12cm**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248000" cy="4105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7080" y="5516640"/>
            <a:ext cx="36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de by North China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titute of Electro-Op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9216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The kHz Laser:  Main Spe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981000"/>
            <a:ext cx="1222200" cy="10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515772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03640" y="3429000"/>
            <a:ext cx="3961080" cy="2994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4067280" y="5516640"/>
            <a:ext cx="1225440" cy="7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549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63025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ontrol/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058920" y="2133720"/>
            <a:ext cx="2089080" cy="93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1484280"/>
            <a:ext cx="11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Beam Expa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465300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7 HR concave mirror;   2 acousto-optic device;   3 Nd:YAG ro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 focus lamp cavity;   5 output coupling mirror;   6 SHG;  8 polarimeter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 diode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6093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sketch map of laser inner optic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69134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187280"/>
            <a:ext cx="36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shot RMS: 10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O: 12000 time-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450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A032-Event T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55897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de by Riga, 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2997360"/>
            <a:ext cx="5040360" cy="214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643280" y="2498760"/>
          <a:ext cx="4035600" cy="36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498760"/>
                    <a:ext cx="403560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067280" y="119700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 rate:  up to 10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port:  EPP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54000"/>
            <a:ext cx="864216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exploit the Event Timer functions to adapt for KHz ranging and develop our own data acquisition software with Visual C++, accor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sample program which defines device-specific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6308640"/>
            <a:ext cx="86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schematic control diagram for A032-Event 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35280" y="1822320"/>
            <a:ext cx="597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26920" y="1197000"/>
            <a:ext cx="792036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e use two RGGs: one from Graz, another made by ou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raz RGG board: 0.5ns resolution, 1ns accuracy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12 buffer,  ISA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hanghai RGG board:  5ns resolution. 1024 buffer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PP mod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t the begin of the experiment, Graz board is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fter that, we use our board to measure satell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33360"/>
            <a:ext cx="71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The kHz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Range Gate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47640" y="57340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ayout of Shanghai Range Gat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2152800"/>
            <a:ext cx="671400" cy="1301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04000" y="3548160"/>
            <a:ext cx="21607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eive/transmit overlap occurr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51080" y="4832280"/>
            <a:ext cx="190656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nge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56200" y="4832280"/>
            <a:ext cx="190656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ser F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43120" y="2970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1720800"/>
            <a:ext cx="4959360" cy="26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20960" y="3222720"/>
            <a:ext cx="82548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9080" y="2639880"/>
            <a:ext cx="762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1139760"/>
            <a:ext cx="223992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ial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34080" y="2479680"/>
            <a:ext cx="53028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P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71920" y="231624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7720" y="2887560"/>
            <a:ext cx="24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681080" y="2887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81600" y="2760840"/>
            <a:ext cx="56844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FI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405480" y="28065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43520" y="3089160"/>
            <a:ext cx="14040" cy="15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6320" y="2714760"/>
            <a:ext cx="110808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6800" y="2560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5400" y="2224080"/>
            <a:ext cx="51732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p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6560" y="1293840"/>
            <a:ext cx="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9000" y="1908000"/>
            <a:ext cx="1379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ial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10240" y="2560680"/>
            <a:ext cx="7952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E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4760" y="2887560"/>
            <a:ext cx="19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15890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8400" y="2970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1901880"/>
            <a:ext cx="220356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PG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ilinx,Spartan3,XC3S20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9280" y="2560680"/>
            <a:ext cx="83844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RT c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00" y="907920"/>
            <a:ext cx="154764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pps Epoch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72120" y="3068640"/>
            <a:ext cx="10800" cy="61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72120" y="3686040"/>
            <a:ext cx="58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91080" y="4030560"/>
            <a:ext cx="0" cy="73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956720" y="2338560"/>
            <a:ext cx="752400" cy="958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62680" y="1652760"/>
            <a:ext cx="13716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ected Event Time of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10600" y="3459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939000" y="3454560"/>
            <a:ext cx="144936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939000" y="3068280"/>
            <a:ext cx="9360" cy="390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899040" y="2219400"/>
            <a:ext cx="150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89680" y="2235240"/>
            <a:ext cx="0" cy="244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388360" y="3298320"/>
            <a:ext cx="0" cy="1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04880" y="2724120"/>
            <a:ext cx="603360" cy="32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D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81600" y="3375000"/>
            <a:ext cx="1447920" cy="7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ser Firing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6560" y="12938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00720" y="4223520"/>
            <a:ext cx="2664000" cy="849240"/>
          </a:xfrm>
          <a:prstGeom prst="cloudCallout">
            <a:avLst>
              <a:gd name="adj1" fmla="val -48037"/>
              <a:gd name="adj2" fmla="val 65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scatter Avo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8360" y="221940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99640" y="836280"/>
            <a:ext cx="79218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Time clock module sync to UTC with 5ns res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xpected Event Time of Return equals to Real Time, then range gate is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receive/transmit overlap occurring time equals to Real Time, then backscatter avoiding function of laser firing module is st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6:09:42Z</dcterms:created>
  <dc:creator>zzp</dc:creator>
  <dc:description/>
  <dc:language>en-US</dc:language>
  <cp:lastModifiedBy>wz chen</cp:lastModifiedBy>
  <dcterms:modified xsi:type="dcterms:W3CDTF">2008-10-15T04:59:59Z</dcterms:modified>
  <cp:revision>240</cp:revision>
  <dc:subject/>
  <dc:title>Preliminary Experiment with KHz SLR at Shanghai Observatory </dc:title>
</cp:coreProperties>
</file>