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8.wmf" ContentType="image/x-wmf"/>
  <Override PartName="/ppt/media/image9.wmf" ContentType="image/x-wmf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10080625" cy="7559675"/>
  <p:notesSz cx="9842500" cy="6753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F5EC-A5C1-4AEA-88C6-35C881BBB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8B9D-70D1-43BF-B0E7-DEC8AE77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96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E452-5B9B-4320-A811-3A823CADA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84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84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EB4F-C584-474D-A26C-173638A9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046A-03EE-4E54-A565-A2535B1C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9213-E3EB-4136-BA05-41A96DC0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659D-B345-4515-92D3-C58B52B9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5FF8-D066-403E-9EC6-FFA2FCD7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47A7-1839-4A55-937C-4E218141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C604-1EB9-4F7E-8902-EC1529A7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96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DC5A-574C-49A0-BCFA-3B82FF6D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BA72-A46A-47F5-B542-1E8C41EC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5ECD78-95DC-4FCD-890A-DF6D48EF8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79280" y="181080"/>
            <a:ext cx="9720360" cy="7378560"/>
            <a:chOff x="179280" y="181080"/>
            <a:chExt cx="9720360" cy="7378560"/>
          </a:xfrm>
        </p:grpSpPr>
        <p:sp>
          <p:nvSpPr>
            <p:cNvPr id="42" name=""/>
            <p:cNvSpPr/>
            <p:nvPr/>
          </p:nvSpPr>
          <p:spPr>
            <a:xfrm>
              <a:off x="179280" y="181080"/>
              <a:ext cx="9720360" cy="7378560"/>
            </a:xfrm>
            <a:prstGeom prst="flowChartDocument">
              <a:avLst/>
            </a:prstGeom>
            <a:solidFill>
              <a:srgbClr val="e6e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60360" y="361800"/>
              <a:ext cx="9360000" cy="7018200"/>
            </a:xfrm>
            <a:prstGeom prst="flowChartDocument">
              <a:avLst/>
            </a:prstGeom>
            <a:solidFill>
              <a:srgbClr val="ffffff">
                <a:alpha val="7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720720" y="900000"/>
            <a:ext cx="8459640" cy="39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High speed Pockels Ce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shutter and the Herstmonceux MCP-PMT detect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20720" y="3960720"/>
            <a:ext cx="8820000" cy="23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thew Wilkin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nd the NERC Space Geodesy Facility te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dnesday, October 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ssion 7 - High repetition-rate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179280" y="181080"/>
            <a:ext cx="9720360" cy="7378560"/>
            <a:chOff x="179280" y="181080"/>
            <a:chExt cx="9720360" cy="7378560"/>
          </a:xfrm>
        </p:grpSpPr>
        <p:sp>
          <p:nvSpPr>
            <p:cNvPr id="73" name=""/>
            <p:cNvSpPr/>
            <p:nvPr/>
          </p:nvSpPr>
          <p:spPr>
            <a:xfrm>
              <a:off x="179280" y="181080"/>
              <a:ext cx="9720360" cy="7378560"/>
            </a:xfrm>
            <a:prstGeom prst="flowChartDocument">
              <a:avLst/>
            </a:prstGeom>
            <a:solidFill>
              <a:srgbClr val="e6e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0360" y="361800"/>
              <a:ext cx="9360000" cy="7018200"/>
            </a:xfrm>
            <a:prstGeom prst="flowChartDocument">
              <a:avLst/>
            </a:prstGeom>
            <a:solidFill>
              <a:srgbClr val="ffffff">
                <a:alpha val="7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539640" y="539640"/>
            <a:ext cx="9001080" cy="62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itably Fast Shu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ysical  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inning disc or resonant forks opening and closing a physical barrier matched in phase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quid Crystal Display  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ll containing long molecules aligned at each surface and 90 degrees apart.  Polarised light is rotated through the cell with no applied voltage.  Cell becomes opaque when a voltage is applied as the molecules align to the electric field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539640"/>
            <a:ext cx="4500720" cy="540000"/>
          </a:xfrm>
          <a:prstGeom prst="rect">
            <a:avLst/>
          </a:pr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179280" y="181080"/>
            <a:ext cx="9720360" cy="7378560"/>
            <a:chOff x="179280" y="181080"/>
            <a:chExt cx="9720360" cy="7378560"/>
          </a:xfrm>
        </p:grpSpPr>
        <p:sp>
          <p:nvSpPr>
            <p:cNvPr id="78" name=""/>
            <p:cNvSpPr/>
            <p:nvPr/>
          </p:nvSpPr>
          <p:spPr>
            <a:xfrm>
              <a:off x="179280" y="181080"/>
              <a:ext cx="9720360" cy="7378560"/>
            </a:xfrm>
            <a:prstGeom prst="flowChartDocument">
              <a:avLst/>
            </a:prstGeom>
            <a:solidFill>
              <a:srgbClr val="e6e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0360" y="361800"/>
              <a:ext cx="9360000" cy="7018200"/>
            </a:xfrm>
            <a:prstGeom prst="flowChartDocument">
              <a:avLst/>
            </a:prstGeom>
            <a:solidFill>
              <a:srgbClr val="ffffff">
                <a:alpha val="7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539640" y="539640"/>
            <a:ext cx="9001080" cy="66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itably Fast Shu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ysical  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inning disc or resonant forks opening and closing a physical barrier matched in phase.</a:t>
            </a:r>
            <a:r>
              <a:rPr b="1" lang="en-US" sz="2600" spc="-1" strike="noStrike">
                <a:solidFill>
                  <a:srgbClr val="dc2300"/>
                </a:solidFill>
                <a:latin typeface="Arial"/>
              </a:rPr>
              <a:t>  However, it is demanding to match the kHz frequency and phase of the returning sign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quid Crystal Display  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ll containing long molecules aligned at each surface and 90 degrees apart.  Polarised light is rotated through the cell with no applied voltage.  Cell becomes opaque when a voltage is applied as the molecules align to the electric fiel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539640"/>
            <a:ext cx="4500720" cy="540000"/>
          </a:xfrm>
          <a:prstGeom prst="rect">
            <a:avLst/>
          </a:pr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79280" y="181080"/>
            <a:ext cx="9720360" cy="7378560"/>
            <a:chOff x="179280" y="181080"/>
            <a:chExt cx="9720360" cy="7378560"/>
          </a:xfrm>
        </p:grpSpPr>
        <p:sp>
          <p:nvSpPr>
            <p:cNvPr id="83" name=""/>
            <p:cNvSpPr/>
            <p:nvPr/>
          </p:nvSpPr>
          <p:spPr>
            <a:xfrm>
              <a:off x="179280" y="181080"/>
              <a:ext cx="9720360" cy="7378560"/>
            </a:xfrm>
            <a:prstGeom prst="flowChartDocument">
              <a:avLst/>
            </a:prstGeom>
            <a:solidFill>
              <a:srgbClr val="e6e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60360" y="361800"/>
              <a:ext cx="9360000" cy="7018200"/>
            </a:xfrm>
            <a:prstGeom prst="flowChartDocument">
              <a:avLst/>
            </a:prstGeom>
            <a:solidFill>
              <a:srgbClr val="ffffff">
                <a:alpha val="7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79280" y="181080"/>
            <a:ext cx="9718920" cy="7556400"/>
            <a:chOff x="179280" y="181080"/>
            <a:chExt cx="9718920" cy="7556400"/>
          </a:xfrm>
        </p:grpSpPr>
        <p:sp>
          <p:nvSpPr>
            <p:cNvPr id="86" name=""/>
            <p:cNvSpPr/>
            <p:nvPr/>
          </p:nvSpPr>
          <p:spPr>
            <a:xfrm>
              <a:off x="179280" y="181080"/>
              <a:ext cx="9718920" cy="7556400"/>
            </a:xfrm>
            <a:prstGeom prst="flowChartDocument">
              <a:avLst/>
            </a:prstGeom>
            <a:solidFill>
              <a:srgbClr val="e6e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60000" y="361800"/>
              <a:ext cx="9358560" cy="7016760"/>
            </a:xfrm>
            <a:prstGeom prst="flowChartDocument">
              <a:avLst/>
            </a:prstGeom>
            <a:solidFill>
              <a:srgbClr val="ffffff">
                <a:alpha val="90000"/>
              </a:srgbClr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539640" y="539640"/>
            <a:ext cx="9001080" cy="66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itably Fast Shu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ysical  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inning disc or resonant forks opening and closing a physical barrier matched in phase.</a:t>
            </a:r>
            <a:r>
              <a:rPr b="1" lang="en-US" sz="2600" spc="-1" strike="noStrike">
                <a:solidFill>
                  <a:srgbClr val="dc2300"/>
                </a:solidFill>
                <a:latin typeface="Arial"/>
              </a:rPr>
              <a:t>  However, it is demanding to match the kHz frequency and phase of the returning sign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quid Crystal Display  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ll containing long molecules aligned at each surface and 90 degrees apart.  Polarised light is rotated through the cell with no applied voltage.  Cell becomes opaque when a voltage is applied as the molecules align to the electric field.  </a:t>
            </a:r>
            <a:r>
              <a:rPr b="1" lang="en-US" sz="2600" spc="-1" strike="noStrike">
                <a:solidFill>
                  <a:srgbClr val="dc2300"/>
                </a:solidFill>
                <a:latin typeface="Arial"/>
              </a:rPr>
              <a:t>However, the shutter needs to open in a few ns and the LCD is </a:t>
            </a:r>
            <a:r>
              <a:rPr b="1" lang="en-US" sz="2600" spc="-1" strike="noStrike" u="sng">
                <a:solidFill>
                  <a:srgbClr val="dc2300"/>
                </a:solidFill>
                <a:uFillTx/>
                <a:latin typeface="Arial"/>
              </a:rPr>
              <a:t>too slow</a:t>
            </a:r>
            <a:r>
              <a:rPr b="1" lang="en-US" sz="2600" spc="-1" strike="noStrike">
                <a:solidFill>
                  <a:srgbClr val="dc2300"/>
                </a:solidFill>
                <a:latin typeface="Arial"/>
              </a:rPr>
              <a:t> with transition times of &gt; 10 μ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539640"/>
            <a:ext cx="4500720" cy="540000"/>
          </a:xfrm>
          <a:prstGeom prst="rect">
            <a:avLst/>
          </a:pr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179280" y="181080"/>
            <a:ext cx="9720360" cy="7378560"/>
            <a:chOff x="179280" y="181080"/>
            <a:chExt cx="9720360" cy="7378560"/>
          </a:xfrm>
        </p:grpSpPr>
        <p:sp>
          <p:nvSpPr>
            <p:cNvPr id="91" name=""/>
            <p:cNvSpPr/>
            <p:nvPr/>
          </p:nvSpPr>
          <p:spPr>
            <a:xfrm>
              <a:off x="179280" y="181080"/>
              <a:ext cx="9720360" cy="7378560"/>
            </a:xfrm>
            <a:prstGeom prst="flowChartDocument">
              <a:avLst/>
            </a:prstGeom>
            <a:solidFill>
              <a:srgbClr val="e6e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0360" y="361800"/>
              <a:ext cx="9360000" cy="7018200"/>
            </a:xfrm>
            <a:prstGeom prst="flowChartDocument">
              <a:avLst/>
            </a:prstGeom>
            <a:solidFill>
              <a:srgbClr val="ffffff">
                <a:alpha val="7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539640" y="539640"/>
            <a:ext cx="9180720" cy="50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itably Fast Shu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ctro-optic  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ckels cell shutter using fast switching of polarisation to block and transmit light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dc23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ousto-optic  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iezoelectric device transmits a sound wave through a quartz crystal to produce a diffraction grating.  This grating then deflect light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539640"/>
            <a:ext cx="4500720" cy="540000"/>
          </a:xfrm>
          <a:prstGeom prst="rect">
            <a:avLst/>
          </a:pr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179280" y="181080"/>
            <a:ext cx="9720360" cy="7378560"/>
            <a:chOff x="179280" y="181080"/>
            <a:chExt cx="9720360" cy="7378560"/>
          </a:xfrm>
        </p:grpSpPr>
        <p:sp>
          <p:nvSpPr>
            <p:cNvPr id="96" name=""/>
            <p:cNvSpPr/>
            <p:nvPr/>
          </p:nvSpPr>
          <p:spPr>
            <a:xfrm>
              <a:off x="179280" y="181080"/>
              <a:ext cx="9720360" cy="7378560"/>
            </a:xfrm>
            <a:prstGeom prst="flowChartDocument">
              <a:avLst/>
            </a:prstGeom>
            <a:solidFill>
              <a:srgbClr val="e6e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0360" y="361800"/>
              <a:ext cx="9360000" cy="7018200"/>
            </a:xfrm>
            <a:prstGeom prst="flowChartDocument">
              <a:avLst/>
            </a:prstGeom>
            <a:solidFill>
              <a:srgbClr val="ffffff">
                <a:alpha val="7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39640" y="539640"/>
            <a:ext cx="9180720" cy="50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itably Fast Shu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ctro-optic  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ckels cell shutter using fast switching of polarisation to block and transmit light.  </a:t>
            </a:r>
            <a:r>
              <a:rPr b="1" lang="en-US" sz="2600" spc="-1" strike="noStrike">
                <a:solidFill>
                  <a:srgbClr val="dc2300"/>
                </a:solidFill>
                <a:latin typeface="Arial"/>
              </a:rPr>
              <a:t>However, more than 50% of returning signal is lo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ousto-optic  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iezoelectric device transmits a sound wave through a quartz crystal to produce a diffraction grating.  This grating then deflect light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539640"/>
            <a:ext cx="4500720" cy="540000"/>
          </a:xfrm>
          <a:prstGeom prst="rect">
            <a:avLst/>
          </a:pr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179280" y="181080"/>
            <a:ext cx="9720360" cy="7378560"/>
            <a:chOff x="179280" y="181080"/>
            <a:chExt cx="9720360" cy="7378560"/>
          </a:xfrm>
        </p:grpSpPr>
        <p:sp>
          <p:nvSpPr>
            <p:cNvPr id="101" name=""/>
            <p:cNvSpPr/>
            <p:nvPr/>
          </p:nvSpPr>
          <p:spPr>
            <a:xfrm>
              <a:off x="179280" y="181080"/>
              <a:ext cx="9720360" cy="7378560"/>
            </a:xfrm>
            <a:prstGeom prst="flowChartDocument">
              <a:avLst/>
            </a:prstGeom>
            <a:solidFill>
              <a:srgbClr val="e6e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0360" y="361800"/>
              <a:ext cx="9360000" cy="7018200"/>
            </a:xfrm>
            <a:prstGeom prst="flowChartDocument">
              <a:avLst/>
            </a:prstGeom>
            <a:solidFill>
              <a:srgbClr val="ffffff">
                <a:alpha val="7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539640" y="539640"/>
            <a:ext cx="9180720" cy="57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itably Fast Shu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ctro-optic  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ckels cell shutter using fast switching of polarisation to block and transmit light.  </a:t>
            </a:r>
            <a:r>
              <a:rPr b="1" lang="en-US" sz="2600" spc="-1" strike="noStrike">
                <a:solidFill>
                  <a:srgbClr val="dc2300"/>
                </a:solidFill>
                <a:latin typeface="Arial"/>
              </a:rPr>
              <a:t>However, more than 50% of returning signal is lo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ousto-optic  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iezoelectric device transmits a sound wave through a quartz crystal to produce a diffraction grating.  This grating then deflect light.  </a:t>
            </a:r>
            <a:r>
              <a:rPr b="1" lang="en-US" sz="2600" spc="-1" strike="noStrike">
                <a:solidFill>
                  <a:srgbClr val="dc2300"/>
                </a:solidFill>
                <a:latin typeface="Arial"/>
              </a:rPr>
              <a:t>However, the speed of the shutter is limited to the speed of sound in the crystal and it is only fast enough if the return signal beamwidth is very small ~ 1 micr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539640"/>
            <a:ext cx="4500720" cy="540000"/>
          </a:xfrm>
          <a:prstGeom prst="rect">
            <a:avLst/>
          </a:pr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179280" y="181080"/>
            <a:ext cx="9720360" cy="7378560"/>
            <a:chOff x="179280" y="181080"/>
            <a:chExt cx="9720360" cy="7378560"/>
          </a:xfrm>
        </p:grpSpPr>
        <p:sp>
          <p:nvSpPr>
            <p:cNvPr id="106" name=""/>
            <p:cNvSpPr/>
            <p:nvPr/>
          </p:nvSpPr>
          <p:spPr>
            <a:xfrm>
              <a:off x="179280" y="181080"/>
              <a:ext cx="9720360" cy="7378560"/>
            </a:xfrm>
            <a:prstGeom prst="flowChartDocument">
              <a:avLst/>
            </a:prstGeom>
            <a:solidFill>
              <a:srgbClr val="e6e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0360" y="361800"/>
              <a:ext cx="9360000" cy="7018200"/>
            </a:xfrm>
            <a:prstGeom prst="flowChartDocument">
              <a:avLst/>
            </a:prstGeom>
            <a:solidFill>
              <a:srgbClr val="ffffff">
                <a:alpha val="7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539640" y="539640"/>
            <a:ext cx="882036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ckels Cell Shu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539640"/>
            <a:ext cx="4140360" cy="540000"/>
          </a:xfrm>
          <a:prstGeom prst="rect">
            <a:avLst/>
          </a:pr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20720" y="2160720"/>
            <a:ext cx="450072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495760" y="720720"/>
            <a:ext cx="3827520" cy="3421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545080" y="4140360"/>
            <a:ext cx="39592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ckels cell picture taken from website www.leysop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20720" y="1368360"/>
            <a:ext cx="1800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4640" y="2160720"/>
            <a:ext cx="38242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velength ran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3 – 1.2μ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0720" y="3498840"/>
            <a:ext cx="362124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tical Rise ti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 1.0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4757760"/>
            <a:ext cx="37814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a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1000: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179280" y="181080"/>
            <a:ext cx="9720360" cy="7378560"/>
            <a:chOff x="179280" y="181080"/>
            <a:chExt cx="9720360" cy="7378560"/>
          </a:xfrm>
        </p:grpSpPr>
        <p:sp>
          <p:nvSpPr>
            <p:cNvPr id="118" name=""/>
            <p:cNvSpPr/>
            <p:nvPr/>
          </p:nvSpPr>
          <p:spPr>
            <a:xfrm>
              <a:off x="179280" y="181080"/>
              <a:ext cx="9720360" cy="7378560"/>
            </a:xfrm>
            <a:prstGeom prst="flowChartDocument">
              <a:avLst/>
            </a:prstGeom>
            <a:solidFill>
              <a:srgbClr val="e6e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60360" y="361800"/>
              <a:ext cx="9360000" cy="7018200"/>
            </a:xfrm>
            <a:prstGeom prst="flowChartDocument">
              <a:avLst/>
            </a:prstGeom>
            <a:solidFill>
              <a:srgbClr val="ffffff">
                <a:alpha val="7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539640" y="539640"/>
            <a:ext cx="882036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ckels Cell Shu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539640"/>
            <a:ext cx="4140360" cy="540000"/>
          </a:xfrm>
          <a:prstGeom prst="rect">
            <a:avLst/>
          </a:pr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0720" y="1368360"/>
            <a:ext cx="1800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495760" y="720720"/>
            <a:ext cx="3827520" cy="3421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545080" y="4140360"/>
            <a:ext cx="39592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ckels cell picture taken from website www.leysop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0720" y="2160720"/>
            <a:ext cx="450072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5000" y="4770360"/>
            <a:ext cx="33037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ysical leng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3462480"/>
            <a:ext cx="37814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ysical diame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5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4480" y="2165400"/>
            <a:ext cx="29638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ertion lo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 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179280" y="181080"/>
            <a:ext cx="9720360" cy="7378560"/>
            <a:chOff x="179280" y="181080"/>
            <a:chExt cx="9720360" cy="7378560"/>
          </a:xfrm>
        </p:grpSpPr>
        <p:sp>
          <p:nvSpPr>
            <p:cNvPr id="130" name=""/>
            <p:cNvSpPr/>
            <p:nvPr/>
          </p:nvSpPr>
          <p:spPr>
            <a:xfrm>
              <a:off x="179280" y="181080"/>
              <a:ext cx="9720360" cy="7378560"/>
            </a:xfrm>
            <a:prstGeom prst="flowChartDocument">
              <a:avLst/>
            </a:prstGeom>
            <a:solidFill>
              <a:srgbClr val="e6e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0360" y="361800"/>
              <a:ext cx="9360000" cy="7018200"/>
            </a:xfrm>
            <a:prstGeom prst="flowChartDocument">
              <a:avLst/>
            </a:prstGeom>
            <a:solidFill>
              <a:srgbClr val="ffffff">
                <a:alpha val="7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539640" y="539640"/>
            <a:ext cx="882036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ckels Cell Shu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539640"/>
            <a:ext cx="4140360" cy="540000"/>
          </a:xfrm>
          <a:prstGeom prst="rect">
            <a:avLst/>
          </a:pr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20720" y="1368360"/>
            <a:ext cx="1800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e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20720" y="2160720"/>
            <a:ext cx="450072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0720" y="5040360"/>
            <a:ext cx="882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is polarised before entering the Pockels cell crystal.  With no applied voltage the light is block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-900000" y="1655640"/>
            <a:ext cx="10863000" cy="2664000"/>
            <a:chOff x="-900000" y="1655640"/>
            <a:chExt cx="10863000" cy="2664000"/>
          </a:xfrm>
        </p:grpSpPr>
        <p:pic>
          <p:nvPicPr>
            <p:cNvPr id="138" name="" descr=""/>
            <p:cNvPicPr/>
            <p:nvPr/>
          </p:nvPicPr>
          <p:blipFill>
            <a:blip r:embed="rId1"/>
            <a:stretch/>
          </p:blipFill>
          <p:spPr>
            <a:xfrm>
              <a:off x="2252520" y="1943280"/>
              <a:ext cx="914400" cy="20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 flipH="1" flipV="1">
              <a:off x="3303720" y="2698560"/>
              <a:ext cx="766800" cy="766440"/>
            </a:xfrm>
            <a:prstGeom prst="line">
              <a:avLst/>
            </a:prstGeom>
            <a:ln w="36000">
              <a:solidFill>
                <a:srgbClr val="3deb3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96000" y="2700360"/>
              <a:ext cx="1106280" cy="1260360"/>
            </a:xfrm>
            <a:prstGeom prst="rect">
              <a:avLst/>
            </a:prstGeom>
            <a:solidFill>
              <a:srgbClr val="ccffff"/>
            </a:solidFill>
            <a:ln w="36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6110280" y="2698560"/>
              <a:ext cx="766800" cy="766440"/>
            </a:xfrm>
            <a:prstGeom prst="line">
              <a:avLst/>
            </a:prstGeom>
            <a:ln w="36000">
              <a:solidFill>
                <a:srgbClr val="3deb3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5400720" y="2915640"/>
              <a:ext cx="2160720" cy="360360"/>
            </a:xfrm>
            <a:prstGeom prst="parallelogram">
              <a:avLst>
                <a:gd name="adj" fmla="val 99101"/>
              </a:avLst>
            </a:prstGeom>
            <a:solidFill>
              <a:srgbClr val="3deb3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96000" y="2700360"/>
              <a:ext cx="1106280" cy="12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2"/>
            <a:stretch/>
          </p:blipFill>
          <p:spPr>
            <a:xfrm>
              <a:off x="6985080" y="1943280"/>
              <a:ext cx="914400" cy="20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8163000" y="2879640"/>
              <a:ext cx="18000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lock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59280" y="1655640"/>
              <a:ext cx="21603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ockel cell Crystal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60720" y="3780000"/>
              <a:ext cx="108108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olariod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40360" y="3738600"/>
              <a:ext cx="10814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olariod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842760" y="2410920"/>
              <a:ext cx="776160" cy="1258920"/>
              <a:chOff x="842760" y="2410920"/>
              <a:chExt cx="776160" cy="1258920"/>
            </a:xfrm>
          </p:grpSpPr>
          <p:sp>
            <p:nvSpPr>
              <p:cNvPr id="150" name=""/>
              <p:cNvSpPr/>
              <p:nvPr/>
            </p:nvSpPr>
            <p:spPr>
              <a:xfrm>
                <a:off x="1224720" y="2449080"/>
                <a:ext cx="1080" cy="1148040"/>
              </a:xfrm>
              <a:prstGeom prst="line">
                <a:avLst/>
              </a:prstGeom>
              <a:ln w="36000">
                <a:solidFill>
                  <a:srgbClr val="3deb3d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 flipV="1">
                <a:off x="969840" y="2410920"/>
                <a:ext cx="534960" cy="1258920"/>
              </a:xfrm>
              <a:prstGeom prst="line">
                <a:avLst/>
              </a:prstGeom>
              <a:ln w="36000">
                <a:solidFill>
                  <a:srgbClr val="3deb3d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865080" y="2735280"/>
                <a:ext cx="753840" cy="540720"/>
              </a:xfrm>
              <a:prstGeom prst="line">
                <a:avLst/>
              </a:prstGeom>
              <a:ln w="36000">
                <a:solidFill>
                  <a:srgbClr val="3deb3d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842760" y="2640240"/>
                <a:ext cx="765000" cy="763920"/>
              </a:xfrm>
              <a:prstGeom prst="line">
                <a:avLst/>
              </a:prstGeom>
              <a:ln w="36000">
                <a:solidFill>
                  <a:srgbClr val="3deb3d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 flipV="1">
              <a:off x="-900000" y="2915280"/>
              <a:ext cx="5761080" cy="360360"/>
            </a:xfrm>
            <a:prstGeom prst="parallelogram">
              <a:avLst>
                <a:gd name="adj" fmla="val 135742"/>
              </a:avLst>
            </a:prstGeom>
            <a:solidFill>
              <a:srgbClr val="3deb3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79280" y="181080"/>
            <a:ext cx="9720360" cy="7378560"/>
            <a:chOff x="179280" y="181080"/>
            <a:chExt cx="9720360" cy="7378560"/>
          </a:xfrm>
        </p:grpSpPr>
        <p:sp>
          <p:nvSpPr>
            <p:cNvPr id="156" name=""/>
            <p:cNvSpPr/>
            <p:nvPr/>
          </p:nvSpPr>
          <p:spPr>
            <a:xfrm>
              <a:off x="179280" y="181080"/>
              <a:ext cx="9720360" cy="7378560"/>
            </a:xfrm>
            <a:prstGeom prst="flowChartDocument">
              <a:avLst/>
            </a:prstGeom>
            <a:solidFill>
              <a:srgbClr val="e6e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60360" y="361800"/>
              <a:ext cx="9360000" cy="7018200"/>
            </a:xfrm>
            <a:prstGeom prst="flowChartDocument">
              <a:avLst/>
            </a:prstGeom>
            <a:solidFill>
              <a:srgbClr val="ffffff">
                <a:alpha val="7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539640" y="539640"/>
            <a:ext cx="882036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ckels Cell Shu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539640"/>
            <a:ext cx="4140360" cy="540000"/>
          </a:xfrm>
          <a:prstGeom prst="rect">
            <a:avLst/>
          </a:pr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20720" y="1368360"/>
            <a:ext cx="1800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e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0720" y="5040360"/>
            <a:ext cx="882000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n applied high voltage the polarisation of the light is rotated.  The light can then pass through the second polariod a reach the det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-900000" y="1655640"/>
            <a:ext cx="10439280" cy="3417840"/>
            <a:chOff x="-900000" y="1655640"/>
            <a:chExt cx="10439280" cy="3417840"/>
          </a:xfrm>
        </p:grpSpPr>
        <p:sp>
          <p:nvSpPr>
            <p:cNvPr id="163" name=""/>
            <p:cNvSpPr/>
            <p:nvPr/>
          </p:nvSpPr>
          <p:spPr>
            <a:xfrm flipH="1" flipV="1">
              <a:off x="3303720" y="2698560"/>
              <a:ext cx="766800" cy="766440"/>
            </a:xfrm>
            <a:prstGeom prst="line">
              <a:avLst/>
            </a:prstGeom>
            <a:ln w="36000">
              <a:solidFill>
                <a:srgbClr val="3deb3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96000" y="2700360"/>
              <a:ext cx="1106280" cy="1260360"/>
            </a:xfrm>
            <a:prstGeom prst="rect">
              <a:avLst/>
            </a:prstGeom>
            <a:solidFill>
              <a:srgbClr val="ccffff"/>
            </a:solidFill>
            <a:ln w="36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59280" y="1655640"/>
              <a:ext cx="21603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ockel cell Crystal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5246640" y="2915280"/>
              <a:ext cx="4292640" cy="360360"/>
            </a:xfrm>
            <a:prstGeom prst="parallelogram">
              <a:avLst>
                <a:gd name="adj" fmla="val 0"/>
              </a:avLst>
            </a:prstGeom>
            <a:solidFill>
              <a:srgbClr val="3deb3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96000" y="2700360"/>
              <a:ext cx="1106280" cy="12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30680" y="3581280"/>
              <a:ext cx="1800" cy="9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00720" y="3384720"/>
              <a:ext cx="1440" cy="11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064120" y="4500720"/>
              <a:ext cx="336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5360" y="4500720"/>
              <a:ext cx="274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4911840" y="4466880"/>
              <a:ext cx="18252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59280" y="4535640"/>
              <a:ext cx="216036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pplied kV Volt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507000" y="2592360"/>
              <a:ext cx="1800" cy="1079640"/>
            </a:xfrm>
            <a:prstGeom prst="line">
              <a:avLst/>
            </a:prstGeom>
            <a:ln w="36000">
              <a:solidFill>
                <a:srgbClr val="3deb3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" descr=""/>
            <p:cNvPicPr/>
            <p:nvPr/>
          </p:nvPicPr>
          <p:blipFill>
            <a:blip r:embed="rId1"/>
            <a:stretch/>
          </p:blipFill>
          <p:spPr>
            <a:xfrm>
              <a:off x="2252520" y="1943280"/>
              <a:ext cx="914400" cy="20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2"/>
            <a:stretch/>
          </p:blipFill>
          <p:spPr>
            <a:xfrm>
              <a:off x="6985080" y="1943280"/>
              <a:ext cx="914400" cy="20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8307360" y="2592360"/>
              <a:ext cx="1440" cy="1079640"/>
            </a:xfrm>
            <a:prstGeom prst="line">
              <a:avLst/>
            </a:prstGeom>
            <a:ln w="36000">
              <a:solidFill>
                <a:srgbClr val="3deb3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160720" y="3780000"/>
              <a:ext cx="108108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olariod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40360" y="3738600"/>
              <a:ext cx="10814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olariod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841320" y="2410920"/>
              <a:ext cx="776160" cy="1258920"/>
              <a:chOff x="841320" y="2410920"/>
              <a:chExt cx="776160" cy="1258920"/>
            </a:xfrm>
          </p:grpSpPr>
          <p:sp>
            <p:nvSpPr>
              <p:cNvPr id="181" name=""/>
              <p:cNvSpPr/>
              <p:nvPr/>
            </p:nvSpPr>
            <p:spPr>
              <a:xfrm>
                <a:off x="1223280" y="2449080"/>
                <a:ext cx="1080" cy="1148040"/>
              </a:xfrm>
              <a:prstGeom prst="line">
                <a:avLst/>
              </a:prstGeom>
              <a:ln w="36000">
                <a:solidFill>
                  <a:srgbClr val="3deb3d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 flipV="1">
                <a:off x="967680" y="2410920"/>
                <a:ext cx="535320" cy="1258920"/>
              </a:xfrm>
              <a:prstGeom prst="line">
                <a:avLst/>
              </a:prstGeom>
              <a:ln w="36000">
                <a:solidFill>
                  <a:srgbClr val="3deb3d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863280" y="2735280"/>
                <a:ext cx="754200" cy="540720"/>
              </a:xfrm>
              <a:prstGeom prst="line">
                <a:avLst/>
              </a:prstGeom>
              <a:ln w="36000">
                <a:solidFill>
                  <a:srgbClr val="3deb3d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 flipV="1">
                <a:off x="841320" y="2640240"/>
                <a:ext cx="765360" cy="763920"/>
              </a:xfrm>
              <a:prstGeom prst="line">
                <a:avLst/>
              </a:prstGeom>
              <a:ln w="36000">
                <a:solidFill>
                  <a:srgbClr val="3deb3d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 flipV="1">
              <a:off x="-900000" y="2915280"/>
              <a:ext cx="5761080" cy="360360"/>
            </a:xfrm>
            <a:prstGeom prst="parallelogram">
              <a:avLst>
                <a:gd name="adj" fmla="val 135742"/>
              </a:avLst>
            </a:prstGeom>
            <a:solidFill>
              <a:srgbClr val="3deb3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40360" y="2914560"/>
              <a:ext cx="1079280" cy="865440"/>
            </a:xfrm>
            <a:custGeom>
              <a:avLst/>
              <a:gdLst>
                <a:gd name="textAreaLeft" fmla="*/ 0 w 1079280"/>
                <a:gd name="textAreaRight" fmla="*/ 1079640 w 1079280"/>
                <a:gd name="textAreaTop" fmla="*/ 0 h 865440"/>
                <a:gd name="textAreaBottom" fmla="*/ 865800 h 86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681" y="18642"/>
                  </a:moveTo>
                  <a:arcTo wR="-7843" hR="-7843" stAng="5452156" swAng="-5359013"/>
                  <a:lnTo>
                    <a:pt x="4" y="10507"/>
                  </a:lnTo>
                  <a:arcTo wR="10800" hR="10800" stAng="-10706857" swAng="5359013"/>
                  <a:lnTo>
                    <a:pt x="11005" y="-2698"/>
                  </a:lnTo>
                  <a:lnTo>
                    <a:pt x="15119" y="1543"/>
                  </a:lnTo>
                  <a:lnTo>
                    <a:pt x="10878" y="5658"/>
                  </a:lnTo>
                  <a:close/>
                </a:path>
              </a:pathLst>
            </a:custGeom>
            <a:solidFill>
              <a:srgbClr val="00ff00">
                <a:alpha val="30000"/>
              </a:srgbClr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8675640" y="2843280"/>
            <a:ext cx="18003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79280" y="181080"/>
            <a:ext cx="9720360" cy="7378560"/>
            <a:chOff x="179280" y="181080"/>
            <a:chExt cx="9720360" cy="7378560"/>
          </a:xfrm>
        </p:grpSpPr>
        <p:sp>
          <p:nvSpPr>
            <p:cNvPr id="47" name=""/>
            <p:cNvSpPr/>
            <p:nvPr/>
          </p:nvSpPr>
          <p:spPr>
            <a:xfrm>
              <a:off x="179280" y="181080"/>
              <a:ext cx="9720360" cy="7378560"/>
            </a:xfrm>
            <a:prstGeom prst="flowChartDocument">
              <a:avLst/>
            </a:prstGeom>
            <a:solidFill>
              <a:srgbClr val="e6e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60360" y="361800"/>
              <a:ext cx="9360000" cy="7018200"/>
            </a:xfrm>
            <a:prstGeom prst="flowChartDocument">
              <a:avLst/>
            </a:prstGeom>
            <a:solidFill>
              <a:srgbClr val="ffffff">
                <a:alpha val="7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539640" y="539640"/>
            <a:ext cx="8820360" cy="56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SGF SLR system uses a C-SPAD detector and consequently make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nly one detection per laser fi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Also the C-SPAD must be armed 50-100ns before an observation to avoid any b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539640"/>
            <a:ext cx="2521080" cy="540000"/>
          </a:xfrm>
          <a:prstGeom prst="rect">
            <a:avLst/>
          </a:pr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472000" y="2347920"/>
            <a:ext cx="4105440" cy="3600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92000" y="3059280"/>
            <a:ext cx="41040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179280" y="181080"/>
            <a:ext cx="9720360" cy="7378560"/>
            <a:chOff x="179280" y="181080"/>
            <a:chExt cx="9720360" cy="7378560"/>
          </a:xfrm>
        </p:grpSpPr>
        <p:sp>
          <p:nvSpPr>
            <p:cNvPr id="189" name=""/>
            <p:cNvSpPr/>
            <p:nvPr/>
          </p:nvSpPr>
          <p:spPr>
            <a:xfrm>
              <a:off x="179280" y="181080"/>
              <a:ext cx="9720360" cy="7378560"/>
            </a:xfrm>
            <a:prstGeom prst="flowChartDocument">
              <a:avLst/>
            </a:prstGeom>
            <a:solidFill>
              <a:srgbClr val="e6e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0360" y="361800"/>
              <a:ext cx="9360000" cy="7018200"/>
            </a:xfrm>
            <a:prstGeom prst="flowChartDocument">
              <a:avLst/>
            </a:prstGeom>
            <a:solidFill>
              <a:srgbClr val="ffffff">
                <a:alpha val="7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539640" y="539640"/>
            <a:ext cx="8820360" cy="61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lus'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jor disadvantage of introducing a Pockels cell shutter before the C-SPAD is the loss of signal intensity due to Malus's L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perfect polariser aligned by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polarised light of intensity I</a:t>
            </a:r>
            <a:r>
              <a:rPr b="0" lang="en-US" sz="2800" spc="-1" strike="noStrike" baseline="-33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output intensity equ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= I</a:t>
            </a:r>
            <a:r>
              <a:rPr b="0" lang="en-US" sz="4000" spc="-1" strike="noStrike" baseline="-33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n-US" sz="40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he intensity component that is parallel to the polariser's transmisson axis is transmit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9640" y="539640"/>
            <a:ext cx="2521080" cy="540000"/>
          </a:xfrm>
          <a:prstGeom prst="rect">
            <a:avLst/>
          </a:pr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179280" y="181080"/>
            <a:ext cx="9720360" cy="7378560"/>
            <a:chOff x="179280" y="181080"/>
            <a:chExt cx="9720360" cy="7378560"/>
          </a:xfrm>
        </p:grpSpPr>
        <p:sp>
          <p:nvSpPr>
            <p:cNvPr id="194" name=""/>
            <p:cNvSpPr/>
            <p:nvPr/>
          </p:nvSpPr>
          <p:spPr>
            <a:xfrm>
              <a:off x="179280" y="181080"/>
              <a:ext cx="9720360" cy="7378560"/>
            </a:xfrm>
            <a:prstGeom prst="flowChartDocument">
              <a:avLst/>
            </a:prstGeom>
            <a:solidFill>
              <a:srgbClr val="e6e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60360" y="361800"/>
              <a:ext cx="9360000" cy="7018200"/>
            </a:xfrm>
            <a:prstGeom prst="flowChartDocument">
              <a:avLst/>
            </a:prstGeom>
            <a:solidFill>
              <a:srgbClr val="ffffff">
                <a:alpha val="7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539640" y="539640"/>
            <a:ext cx="8820360" cy="62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lus'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polarised light consists of a random mixture of polarisations.  The average over this random mixture is the average of cos</a:t>
            </a:r>
            <a:r>
              <a:rPr b="0" lang="en-US" sz="28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θ from 0 to 90</a:t>
            </a:r>
            <a:r>
              <a:rPr b="0" lang="en-US" sz="2800" spc="-1" strike="noStrike" baseline="33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equals 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fore the intensity of unpolarised light through a perfect polariser is reduced by ha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arisers are not perfect and so transmission is less than 50%, although this is small using calcite glass polaris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9640" y="539640"/>
            <a:ext cx="2521080" cy="540000"/>
          </a:xfrm>
          <a:prstGeom prst="rect">
            <a:avLst/>
          </a:pr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179280" y="181080"/>
            <a:ext cx="9720360" cy="7378560"/>
            <a:chOff x="179280" y="181080"/>
            <a:chExt cx="9720360" cy="7378560"/>
          </a:xfrm>
        </p:grpSpPr>
        <p:sp>
          <p:nvSpPr>
            <p:cNvPr id="199" name=""/>
            <p:cNvSpPr/>
            <p:nvPr/>
          </p:nvSpPr>
          <p:spPr>
            <a:xfrm>
              <a:off x="179280" y="181080"/>
              <a:ext cx="9720360" cy="7378560"/>
            </a:xfrm>
            <a:prstGeom prst="flowChartDocument">
              <a:avLst/>
            </a:prstGeom>
            <a:solidFill>
              <a:srgbClr val="e6e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0360" y="361800"/>
              <a:ext cx="9360000" cy="7018200"/>
            </a:xfrm>
            <a:prstGeom prst="flowChartDocument">
              <a:avLst/>
            </a:prstGeom>
            <a:solidFill>
              <a:srgbClr val="ffffff">
                <a:alpha val="7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539640" y="539640"/>
            <a:ext cx="8820360" cy="64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rthe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ckels cell must be electronically switched at high voltage.  </a:t>
            </a:r>
            <a:r>
              <a:rPr b="0" lang="en-US" sz="2800" spc="-1" strike="noStrike">
                <a:solidFill>
                  <a:srgbClr val="dc2300"/>
                </a:solidFill>
                <a:latin typeface="Arial"/>
              </a:rPr>
              <a:t>This reduces gating time to 10-15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ckels cell will not block all wavelengths of light so it is positioned after the dichroic mirror in the return path and experiences mostly green l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imetry or LEO satellites could have a sloping track in a narrow a range gate and searching is difficult.  </a:t>
            </a:r>
            <a:r>
              <a:rPr b="0" lang="en-US" sz="2800" spc="-1" strike="noStrike">
                <a:solidFill>
                  <a:srgbClr val="dc2300"/>
                </a:solidFill>
                <a:latin typeface="Arial"/>
              </a:rPr>
              <a:t>Therefore this technique works best for Lageos or HEO satelli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9640" y="539640"/>
            <a:ext cx="3060720" cy="540000"/>
          </a:xfrm>
          <a:prstGeom prst="rect">
            <a:avLst/>
          </a:pr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179280" y="181080"/>
            <a:ext cx="9720360" cy="7378560"/>
            <a:chOff x="179280" y="181080"/>
            <a:chExt cx="9720360" cy="7378560"/>
          </a:xfrm>
        </p:grpSpPr>
        <p:sp>
          <p:nvSpPr>
            <p:cNvPr id="204" name=""/>
            <p:cNvSpPr/>
            <p:nvPr/>
          </p:nvSpPr>
          <p:spPr>
            <a:xfrm>
              <a:off x="179280" y="181080"/>
              <a:ext cx="9720360" cy="7378560"/>
            </a:xfrm>
            <a:prstGeom prst="flowChartDocument">
              <a:avLst/>
            </a:prstGeom>
            <a:solidFill>
              <a:srgbClr val="e6e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0360" y="361800"/>
              <a:ext cx="9360000" cy="7018200"/>
            </a:xfrm>
            <a:prstGeom prst="flowChartDocument">
              <a:avLst/>
            </a:prstGeom>
            <a:solidFill>
              <a:srgbClr val="ffffff">
                <a:alpha val="7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539640" y="539640"/>
            <a:ext cx="8820360" cy="64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? Install a Pockels c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ery fast shutter would benefit Lageos and HEO SLR by reducing daytime no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st shutter option is a Pockels cell and all of the  obstacles encountered in planning for the installation have been over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is shutter is a 50% loss of return sig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tag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close gating that reduces the number of lost shots due to daytime no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9640" y="539640"/>
            <a:ext cx="7021800" cy="540000"/>
          </a:xfrm>
          <a:prstGeom prst="rect">
            <a:avLst/>
          </a:pr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179280" y="181080"/>
            <a:ext cx="9720360" cy="7378560"/>
            <a:chOff x="179280" y="181080"/>
            <a:chExt cx="9720360" cy="7378560"/>
          </a:xfrm>
        </p:grpSpPr>
        <p:sp>
          <p:nvSpPr>
            <p:cNvPr id="209" name=""/>
            <p:cNvSpPr/>
            <p:nvPr/>
          </p:nvSpPr>
          <p:spPr>
            <a:xfrm>
              <a:off x="179280" y="181080"/>
              <a:ext cx="9720360" cy="7378560"/>
            </a:xfrm>
            <a:prstGeom prst="flowChartDocument">
              <a:avLst/>
            </a:prstGeom>
            <a:solidFill>
              <a:srgbClr val="e6e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360" y="361800"/>
              <a:ext cx="9360000" cy="7018200"/>
            </a:xfrm>
            <a:prstGeom prst="flowChartDocument">
              <a:avLst/>
            </a:prstGeom>
            <a:solidFill>
              <a:srgbClr val="ffffff">
                <a:alpha val="7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539640" y="539640"/>
            <a:ext cx="8820360" cy="53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ternative Detect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lternative option that would give the same advantage of close gating would be to </a:t>
            </a:r>
            <a:r>
              <a:rPr b="0" lang="en-US" sz="2800" spc="-1" strike="noStrike">
                <a:solidFill>
                  <a:srgbClr val="dc2300"/>
                </a:solidFill>
                <a:latin typeface="Arial"/>
              </a:rPr>
              <a:t>switch to an MCP-PMT dete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MCP-PMT detect can be gat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quicker than a Pockels cell shu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this detector has much less dark noise compared to the SP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9640" y="539640"/>
            <a:ext cx="4319640" cy="540000"/>
          </a:xfrm>
          <a:prstGeom prst="rect">
            <a:avLst/>
          </a:pr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179280" y="181080"/>
            <a:ext cx="9720360" cy="7378560"/>
            <a:chOff x="179280" y="181080"/>
            <a:chExt cx="9720360" cy="7378560"/>
          </a:xfrm>
        </p:grpSpPr>
        <p:sp>
          <p:nvSpPr>
            <p:cNvPr id="214" name=""/>
            <p:cNvSpPr/>
            <p:nvPr/>
          </p:nvSpPr>
          <p:spPr>
            <a:xfrm>
              <a:off x="179280" y="181080"/>
              <a:ext cx="9720360" cy="7378560"/>
            </a:xfrm>
            <a:prstGeom prst="flowChartDocument">
              <a:avLst/>
            </a:prstGeom>
            <a:solidFill>
              <a:srgbClr val="e6e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0360" y="361800"/>
              <a:ext cx="9360000" cy="7018200"/>
            </a:xfrm>
            <a:prstGeom prst="flowChartDocument">
              <a:avLst/>
            </a:prstGeom>
            <a:solidFill>
              <a:srgbClr val="ffffff">
                <a:alpha val="7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24000" y="571680"/>
            <a:ext cx="7659720" cy="60163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539640" y="539640"/>
            <a:ext cx="4319640" cy="540000"/>
          </a:xfrm>
          <a:prstGeom prst="rect">
            <a:avLst/>
          </a:pr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9640" y="539640"/>
            <a:ext cx="882036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CP-PMT Detect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179280" y="181080"/>
            <a:ext cx="9720360" cy="7378560"/>
            <a:chOff x="179280" y="181080"/>
            <a:chExt cx="9720360" cy="7378560"/>
          </a:xfrm>
        </p:grpSpPr>
        <p:sp>
          <p:nvSpPr>
            <p:cNvPr id="220" name=""/>
            <p:cNvSpPr/>
            <p:nvPr/>
          </p:nvSpPr>
          <p:spPr>
            <a:xfrm>
              <a:off x="179280" y="181080"/>
              <a:ext cx="9720360" cy="7378560"/>
            </a:xfrm>
            <a:prstGeom prst="flowChartDocument">
              <a:avLst/>
            </a:prstGeom>
            <a:solidFill>
              <a:srgbClr val="e6e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0360" y="361800"/>
              <a:ext cx="9360000" cy="7018200"/>
            </a:xfrm>
            <a:prstGeom prst="flowChartDocument">
              <a:avLst/>
            </a:prstGeom>
            <a:solidFill>
              <a:srgbClr val="ffffff">
                <a:alpha val="7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539640" y="539640"/>
            <a:ext cx="882036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CP-PMT Detect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ce of MCP-PMT from Photek or Hamamats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hote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2300dc"/>
                </a:solidFill>
                <a:latin typeface="Thorndale AMT;Times New Roman"/>
              </a:rPr>
              <a:t>PMT210 S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fast g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um efficiency  =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itter  =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amamats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2300dc"/>
                </a:solidFill>
                <a:latin typeface="Thorndale AMT;Times New Roman"/>
              </a:rPr>
              <a:t>MCP-PMT R5916U-6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fast g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um efficiency  =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itter  =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0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539640"/>
            <a:ext cx="4319640" cy="540000"/>
          </a:xfrm>
          <a:prstGeom prst="rect">
            <a:avLst/>
          </a:pr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56360" y="4716360"/>
            <a:ext cx="2340000" cy="900360"/>
          </a:xfrm>
          <a:prstGeom prst="rect">
            <a:avLst/>
          </a:prstGeom>
          <a:noFill/>
          <a:ln w="72000">
            <a:solidFill>
              <a:srgbClr val="dc2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26000" tIns="81000" bIns="81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dc2300"/>
                </a:solidFill>
                <a:latin typeface="Arial"/>
              </a:rPr>
              <a:t>Installed at Borowi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227640" y="2340000"/>
            <a:ext cx="2700360" cy="900000"/>
          </a:xfrm>
          <a:prstGeom prst="rect">
            <a:avLst/>
          </a:prstGeom>
          <a:noFill/>
          <a:ln w="72000">
            <a:solidFill>
              <a:srgbClr val="dc2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26000" tIns="81000" bIns="81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dc2300"/>
                </a:solidFill>
                <a:latin typeface="Arial"/>
              </a:rPr>
              <a:t>Testing at Herstmonc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179280" y="181080"/>
            <a:ext cx="9720360" cy="7378560"/>
            <a:chOff x="179280" y="181080"/>
            <a:chExt cx="9720360" cy="7378560"/>
          </a:xfrm>
        </p:grpSpPr>
        <p:sp>
          <p:nvSpPr>
            <p:cNvPr id="227" name=""/>
            <p:cNvSpPr/>
            <p:nvPr/>
          </p:nvSpPr>
          <p:spPr>
            <a:xfrm>
              <a:off x="179280" y="181080"/>
              <a:ext cx="9720360" cy="7378560"/>
            </a:xfrm>
            <a:prstGeom prst="flowChartDocument">
              <a:avLst/>
            </a:prstGeom>
            <a:solidFill>
              <a:srgbClr val="e6e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0360" y="361800"/>
              <a:ext cx="9360000" cy="7018200"/>
            </a:xfrm>
            <a:prstGeom prst="flowChartDocument">
              <a:avLst/>
            </a:prstGeom>
            <a:solidFill>
              <a:srgbClr val="ffffff">
                <a:alpha val="7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539640" y="539640"/>
            <a:ext cx="8820360" cy="37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CP-PMT Detect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9640" y="539640"/>
            <a:ext cx="4319640" cy="540000"/>
          </a:xfrm>
          <a:prstGeom prst="rect">
            <a:avLst/>
          </a:pr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84360" y="2340000"/>
            <a:ext cx="5219640" cy="39146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227640" y="2340000"/>
            <a:ext cx="2700360" cy="900000"/>
          </a:xfrm>
          <a:prstGeom prst="rect">
            <a:avLst/>
          </a:prstGeom>
          <a:noFill/>
          <a:ln w="72000">
            <a:solidFill>
              <a:srgbClr val="dc2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26000" tIns="81000" bIns="81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dc2300"/>
                </a:solidFill>
                <a:latin typeface="Arial"/>
              </a:rPr>
              <a:t>Testing at Herstmonc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79280" y="181080"/>
            <a:ext cx="9720360" cy="7378560"/>
            <a:chOff x="179280" y="181080"/>
            <a:chExt cx="9720360" cy="7378560"/>
          </a:xfrm>
        </p:grpSpPr>
        <p:sp>
          <p:nvSpPr>
            <p:cNvPr id="54" name=""/>
            <p:cNvSpPr/>
            <p:nvPr/>
          </p:nvSpPr>
          <p:spPr>
            <a:xfrm>
              <a:off x="179280" y="181080"/>
              <a:ext cx="9720360" cy="7378560"/>
            </a:xfrm>
            <a:prstGeom prst="flowChartDocument">
              <a:avLst/>
            </a:prstGeom>
            <a:solidFill>
              <a:srgbClr val="e6e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0360" y="361800"/>
              <a:ext cx="9360000" cy="7018200"/>
            </a:xfrm>
            <a:prstGeom prst="flowChartDocument">
              <a:avLst/>
            </a:prstGeom>
            <a:solidFill>
              <a:srgbClr val="ffffff">
                <a:alpha val="7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539640" y="539640"/>
            <a:ext cx="8820360" cy="56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C-SPAD detects a noise point before the arrival of the satellite return signal th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pportun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observed the satellite for that sho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s l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omparison to the Nd:YAG laser, the new kHz laser system has a greatl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duced signal to noise rati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much more samp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refore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aylight noise is much more apparent in the range gate window and has a more significant impact on observ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539640"/>
            <a:ext cx="2521080" cy="540000"/>
          </a:xfrm>
          <a:prstGeom prst="rect">
            <a:avLst/>
          </a:pr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19280" y="900000"/>
            <a:ext cx="8642160" cy="59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36720" y="755640"/>
            <a:ext cx="8180280" cy="602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68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60360" y="324000"/>
            <a:ext cx="9288360" cy="699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3071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179280" y="181080"/>
            <a:ext cx="9720360" cy="7378560"/>
            <a:chOff x="179280" y="181080"/>
            <a:chExt cx="9720360" cy="7378560"/>
          </a:xfrm>
        </p:grpSpPr>
        <p:sp>
          <p:nvSpPr>
            <p:cNvPr id="62" name=""/>
            <p:cNvSpPr/>
            <p:nvPr/>
          </p:nvSpPr>
          <p:spPr>
            <a:xfrm>
              <a:off x="179280" y="181080"/>
              <a:ext cx="9720360" cy="7378560"/>
            </a:xfrm>
            <a:prstGeom prst="flowChartDocument">
              <a:avLst/>
            </a:prstGeom>
            <a:solidFill>
              <a:srgbClr val="e6e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0360" y="361800"/>
              <a:ext cx="9360000" cy="7018200"/>
            </a:xfrm>
            <a:prstGeom prst="flowChartDocument">
              <a:avLst/>
            </a:prstGeom>
            <a:solidFill>
              <a:srgbClr val="ffffff">
                <a:alpha val="7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39640" y="539640"/>
            <a:ext cx="882036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ylight noise in the range 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-SPAD will make a detection within a few hundreds of nanoseconds during normal daylight op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duce daytime noise the return path includes an oven controlled daylight filter that allows a narrow spectrum of 0.14nm FWHM centred at 532.1nm. Peak Transmission is 68.04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plot shows the daylight detections for the Champ pass as a proportion of laser fi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539640"/>
            <a:ext cx="6300720" cy="540000"/>
          </a:xfrm>
          <a:prstGeom prst="rect">
            <a:avLst/>
          </a:pr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88960" y="268200"/>
            <a:ext cx="8902800" cy="702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179280" y="181080"/>
            <a:ext cx="9720360" cy="7378560"/>
            <a:chOff x="179280" y="181080"/>
            <a:chExt cx="9720360" cy="7378560"/>
          </a:xfrm>
        </p:grpSpPr>
        <p:sp>
          <p:nvSpPr>
            <p:cNvPr id="68" name=""/>
            <p:cNvSpPr/>
            <p:nvPr/>
          </p:nvSpPr>
          <p:spPr>
            <a:xfrm>
              <a:off x="179280" y="181080"/>
              <a:ext cx="9720360" cy="7378560"/>
            </a:xfrm>
            <a:prstGeom prst="flowChartDocument">
              <a:avLst/>
            </a:prstGeom>
            <a:solidFill>
              <a:srgbClr val="e6e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0360" y="361800"/>
              <a:ext cx="9360000" cy="7018200"/>
            </a:xfrm>
            <a:prstGeom prst="flowChartDocument">
              <a:avLst/>
            </a:prstGeom>
            <a:solidFill>
              <a:srgbClr val="ffffff">
                <a:alpha val="7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539640" y="539640"/>
            <a:ext cx="88203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y Fast Shu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ing a shutter before the C-SPAD will allow it to fully arm in darkness. The shutter can then be opened much closer to the satellite track (~10n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could turn a 50% loss to a 10% lo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404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284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539640"/>
            <a:ext cx="3600720" cy="540000"/>
          </a:xfrm>
          <a:prstGeom prst="rect">
            <a:avLst/>
          </a:pr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raham Appleby</cp:lastModifiedBy>
  <dcterms:modified xsi:type="dcterms:W3CDTF">2008-10-12T15:24:51Z</dcterms:modified>
  <cp:revision>10</cp:revision>
  <dc:subject/>
  <dc:title>Slide 1</dc:title>
</cp:coreProperties>
</file>