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FCC-4623-4B63-BB32-7F48D771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16BE0-4BB1-4499-A0F0-5C3B8BD1E1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8FE-D57D-4F2B-A926-DC003D01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943-2B79-4003-AA12-C0512DA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64F-98D3-4AAB-86A4-129B8896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37F-6FCF-4036-845F-2717EBC3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02C-2894-496A-A58D-E2F9662D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01680" y="158760"/>
            <a:ext cx="6765480" cy="345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369-FEA2-42BB-B4C4-BB26F083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24D-735C-441D-9D6E-9140D6B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796-7E78-4B52-85DD-7361877C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A63-FE85-4206-8F01-436B1B0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CAD-9FE3-420E-B4DC-AB4CB43F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9DA-C03C-4C0D-AC61-C20F1FA6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27A-B6D6-4B60-ABC0-B2429706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01680" y="158760"/>
            <a:ext cx="6765480" cy="345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755640"/>
            <a:ext cx="8991720" cy="595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6320" y="76320"/>
            <a:ext cx="8991360" cy="9954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49440" y="28440"/>
            <a:ext cx="4935240" cy="5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lasma Physics Division, Radar Divis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Space Science Division, Naval Center for Space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beveled logos"/>
          <p:cNvPicPr/>
          <p:nvPr/>
        </p:nvPicPr>
        <p:blipFill>
          <a:blip r:embed="rId3"/>
          <a:stretch/>
        </p:blipFill>
        <p:spPr>
          <a:xfrm>
            <a:off x="144360" y="1144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" name="Freeform 7"/>
          <p:cNvSpPr/>
          <p:nvPr/>
        </p:nvSpPr>
        <p:spPr>
          <a:xfrm>
            <a:off x="222120" y="923760"/>
            <a:ext cx="4319640" cy="2538720"/>
          </a:xfrm>
          <a:prstGeom prst="pie">
            <a:avLst/>
          </a:prstGeom>
          <a:solidFill>
            <a:srgbClr val="ffffff"/>
          </a:solidFill>
          <a:ln w="57240">
            <a:solidFill>
              <a:srgbClr val="80808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681440" y="1219320"/>
            <a:ext cx="4232520" cy="224604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3597120"/>
            <a:ext cx="4324320" cy="265140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4695840" y="3597120"/>
            <a:ext cx="4213080" cy="2651400"/>
          </a:xfrm>
          <a:prstGeom prst="rect">
            <a:avLst/>
          </a:prstGeom>
          <a:gradFill rotWithShape="0">
            <a:gsLst>
              <a:gs pos="0">
                <a:srgbClr val="e3e3e3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83076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145440" y="631188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al Research Labora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shington, DC 20375-5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2670120" y="631188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aul Bernhardt, 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4801320" y="6311880"/>
            <a:ext cx="199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aul.bernhardt@nrl.navy.m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5"/>
          <p:cNvSpPr/>
          <p:nvPr/>
        </p:nvSpPr>
        <p:spPr>
          <a:xfrm>
            <a:off x="7621560" y="6311880"/>
            <a:ext cx="13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202) 767-01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737240" y="1298160"/>
            <a:ext cx="4078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spcBef>
                <a:spcPts val="2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171360">
              <a:spcBef>
                <a:spcPts val="24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17360">
              <a:spcBef>
                <a:spcPts val="2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1360">
              <a:spcBef>
                <a:spcPts val="24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200240" indent="-171360">
              <a:spcBef>
                <a:spcPts val="24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200240" indent="-17136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200240" indent="-17136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1020600" y="390600"/>
            <a:ext cx="3030840" cy="36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val Research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38160" y="6737400"/>
            <a:ext cx="24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1289-B374-402B-B831-B085EF31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1201680" y="158760"/>
            <a:ext cx="6765480" cy="74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5006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50069"/>
              </a:solidFill>
              <a:latin typeface="Arial"/>
            </a:endParaRPr>
          </a:p>
        </p:txBody>
      </p:sp>
      <p:pic>
        <p:nvPicPr>
          <p:cNvPr id="58" name="Rectangle 533509" descr=""/>
          <p:cNvPicPr/>
          <p:nvPr/>
        </p:nvPicPr>
        <p:blipFill>
          <a:blip r:embed="rId2"/>
          <a:stretch/>
        </p:blipFill>
        <p:spPr>
          <a:xfrm>
            <a:off x="111240" y="87480"/>
            <a:ext cx="906480" cy="90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150400" y="9036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2329"/>
          <a:stretch/>
        </p:blipFill>
        <p:spPr>
          <a:xfrm>
            <a:off x="263520" y="963720"/>
            <a:ext cx="4246560" cy="2214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79640" y="228240"/>
            <a:ext cx="4235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cision Expandable Radar Calibration Sphere (PERCS) Experiment Concep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4495320"/>
            <a:ext cx="412092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spect Insensitive Target for Calibration of Ground HF Radars and HF High Power Transmi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 Weather Radars (SuperDAR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nospheric Heaters (HAARP, EISC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brated Optical Target for Ground Satellite Laser Rang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83240" y="429732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ND SYSTEMS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76760" y="3581280"/>
            <a:ext cx="22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sons to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24280" y="1249200"/>
            <a:ext cx="32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APPROACH and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740120" y="3828960"/>
            <a:ext cx="40244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 indent="-5724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Balloon in Low Earth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tmospheric Drag Limit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abrication and Materials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HF Radar Calibration Limited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Objects in Low Earth Orbit (LEO) are NOT Usable for HF Radar Cal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adar Calibration Spheres are Too Small (ANDE – 1 meter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lnSpc>
                <a:spcPct val="90000"/>
              </a:lnSpc>
              <a:spcBef>
                <a:spcPts val="675"/>
              </a:spcBef>
              <a:buClr>
                <a:srgbClr val="cc0066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atellites have Irregular Cross Section (e.g. Space Shuttle, Space S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648320" y="1523880"/>
            <a:ext cx="4114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90000"/>
              </a:lnSpc>
              <a:spcBef>
                <a:spcPts val="2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re Frame Calibration Target for HF Radar Systems in Low Earth Orbit with Known Radar Cross Section (RC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4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loyment of Large Polyhedral Structure in Space with ~ 5 Year On-Orbit Ope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4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Atmospheric Drag Using Open Frame Configuration with No Impact on RCS Proper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4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ner Cube Reflectors at the Vertices of Spherical Polyhedron Provides Optical Calibration Sour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90000"/>
              </a:lnSpc>
              <a:spcBef>
                <a:spcPts val="4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line Design: 10 Meter Diameter Target with HF Radio Frequencies Up to 40 M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85840" y="3165120"/>
            <a:ext cx="4216320" cy="25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HF Radar and LRS Calibration Targe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680" y="2467080"/>
            <a:ext cx="23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Deployment of a V6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00"/>
                </a:solidFill>
                <a:latin typeface="Arial"/>
              </a:rPr>
              <a:t>Wire-Fram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3080" y="3581280"/>
            <a:ext cx="203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Spec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28600" y="3809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3520" indent="-83520"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loyment from 1.2 to 10 meters Di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520" indent="-83520"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80 Retro-Reflectors Around 180 Vertex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676760" y="5973840"/>
            <a:ext cx="28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mentary Experiments: 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96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3:55:32Z</dcterms:created>
  <dc:creator>Paul Bernhardt</dc:creator>
  <dc:description/>
  <dc:language>en-US</dc:language>
  <cp:lastModifiedBy>Paul Bernhardt</cp:lastModifiedBy>
  <dcterms:modified xsi:type="dcterms:W3CDTF">2008-10-15T16:12:56Z</dcterms:modified>
  <cp:revision>6</cp:revision>
  <dc:subject/>
  <dc:title>Precision Expandable Radar Calibration Sphere (PERCS) Experiment Concept </dc:title>
</cp:coreProperties>
</file>