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9F11-EBB5-454C-8652-40CB76303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432021-711C-4474-8B9A-34073AA42E1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474-DD91-4281-8A16-40A03410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37240" y="1298160"/>
            <a:ext cx="4078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7240" y="2397240"/>
            <a:ext cx="4078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297-6D6C-43C5-8278-7A125724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37240" y="129816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7040" y="129816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7240" y="239724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827040" y="239724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B1E-AF03-4886-BC9B-F1D98EE1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37240" y="1298160"/>
            <a:ext cx="13129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16040" y="1298160"/>
            <a:ext cx="13129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95200" y="1298160"/>
            <a:ext cx="13129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7240" y="2397240"/>
            <a:ext cx="13129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16040" y="2397240"/>
            <a:ext cx="13129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95200" y="2397240"/>
            <a:ext cx="13129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96D-9695-4141-B509-6D4CB9E7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737240" y="1298160"/>
            <a:ext cx="4078080" cy="21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37240" y="1298160"/>
            <a:ext cx="4078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37240" y="1298160"/>
            <a:ext cx="1990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27040" y="1298160"/>
            <a:ext cx="1990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679640" y="228240"/>
            <a:ext cx="42354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37240" y="129816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27040" y="1298160"/>
            <a:ext cx="1990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37240" y="239724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37240" y="1298160"/>
            <a:ext cx="4078080" cy="21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BF5-709F-4E92-889C-AEBC6310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37240" y="1298160"/>
            <a:ext cx="1990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27040" y="129816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27040" y="239724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737240" y="129816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27040" y="129816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37240" y="2397240"/>
            <a:ext cx="4078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737240" y="1298160"/>
            <a:ext cx="4078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37240" y="2397240"/>
            <a:ext cx="4078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37240" y="129816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27040" y="129816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37240" y="239724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27040" y="239724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37240" y="1298160"/>
            <a:ext cx="13129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116040" y="1298160"/>
            <a:ext cx="13129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495200" y="1298160"/>
            <a:ext cx="13129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2397240"/>
            <a:ext cx="13129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6116040" y="2397240"/>
            <a:ext cx="13129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495200" y="2397240"/>
            <a:ext cx="13129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37240" y="1298160"/>
            <a:ext cx="4078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ECE-8813-46A1-9D6B-D0539926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37240" y="1298160"/>
            <a:ext cx="1990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827040" y="1298160"/>
            <a:ext cx="1990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5AE-A7E4-4A0E-B505-7A9BFBEE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3AC-2B2E-4D14-A033-5D4B08A3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79640" y="228240"/>
            <a:ext cx="42354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AAB-0437-43D0-AA08-917F2EC3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37240" y="129816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827040" y="1298160"/>
            <a:ext cx="1990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37240" y="239724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85E-8D6C-43CB-9304-047A7A73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37240" y="1298160"/>
            <a:ext cx="1990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827040" y="129816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27040" y="239724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A01-DB07-45D5-A982-464BD5B1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37240" y="129816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827040" y="1298160"/>
            <a:ext cx="1990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7240" y="2397240"/>
            <a:ext cx="40780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BA5E-571D-4DFC-B4C5-36DD6DBD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6315-53A5-4F4C-A9E7-D3AE66B12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755640"/>
            <a:ext cx="8991720" cy="595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76320" y="76320"/>
            <a:ext cx="8991360" cy="9954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49440" y="28440"/>
            <a:ext cx="4935240" cy="59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Plasma Physics Division, Radar Divisio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Space Science Division, Naval Center for Space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beveled logos"/>
          <p:cNvPicPr/>
          <p:nvPr/>
        </p:nvPicPr>
        <p:blipFill>
          <a:blip r:embed="rId3"/>
          <a:stretch/>
        </p:blipFill>
        <p:spPr>
          <a:xfrm>
            <a:off x="144360" y="1144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6" name="Freeform 7"/>
          <p:cNvSpPr/>
          <p:nvPr/>
        </p:nvSpPr>
        <p:spPr>
          <a:xfrm>
            <a:off x="222120" y="923760"/>
            <a:ext cx="4319640" cy="2538720"/>
          </a:xfrm>
          <a:prstGeom prst="pie">
            <a:avLst/>
          </a:prstGeom>
          <a:solidFill>
            <a:srgbClr val="ffffff"/>
          </a:solidFill>
          <a:ln w="57240">
            <a:solidFill>
              <a:srgbClr val="80808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681440" y="1219320"/>
            <a:ext cx="4232520" cy="2246040"/>
          </a:xfrm>
          <a:prstGeom prst="rect">
            <a:avLst/>
          </a:prstGeom>
          <a:gradFill rotWithShape="0">
            <a:gsLst>
              <a:gs pos="0">
                <a:srgbClr val="e3e3e3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28600" y="3597120"/>
            <a:ext cx="4324320" cy="2651400"/>
          </a:xfrm>
          <a:prstGeom prst="rect">
            <a:avLst/>
          </a:prstGeom>
          <a:gradFill rotWithShape="0">
            <a:gsLst>
              <a:gs pos="0">
                <a:srgbClr val="e3e3e3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4695840" y="3597120"/>
            <a:ext cx="4213080" cy="2651400"/>
          </a:xfrm>
          <a:prstGeom prst="rect">
            <a:avLst/>
          </a:prstGeom>
          <a:gradFill rotWithShape="0">
            <a:gsLst>
              <a:gs pos="0">
                <a:srgbClr val="e3e3e3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83076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45440" y="631188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val Research Laborat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ashington, DC 20375-5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2670120" y="631188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aul Bernhardt, P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4801320" y="6311880"/>
            <a:ext cx="199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aul.bernhardt@nrl.navy.m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7621560" y="6311880"/>
            <a:ext cx="138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on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202) 767-019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737240" y="1298160"/>
            <a:ext cx="4078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-111240">
              <a:spcBef>
                <a:spcPts val="2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-171360">
              <a:spcBef>
                <a:spcPts val="24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17360">
              <a:spcBef>
                <a:spcPts val="2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1360">
              <a:spcBef>
                <a:spcPts val="24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200240" indent="-171360">
              <a:spcBef>
                <a:spcPts val="249"/>
              </a:spcBef>
              <a:buClr>
                <a:srgbClr val="cc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200240" indent="-17136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200240" indent="-17136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1020600" y="390600"/>
            <a:ext cx="3030840" cy="36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val Research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38160" y="6737400"/>
            <a:ext cx="2462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associates@hoberman.com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image" Target="../media/image13.jpe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ace-Based Calibration of HF Rada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using the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cision Expandable Radar Calibration Sphere (PERC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 A. Bernhar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Physics Division, Naval Research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ton, DC 203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n@ppd.nrl.navy.m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202-767-01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ui, Hawa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Sept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Sponsored by ON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-meter Wire Frame Radar Refl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20880"/>
            <a:ext cx="4610160" cy="5037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33840" y="1820880"/>
            <a:ext cx="461016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uted Radar Cross Sections for Two Observation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52560" y="1576440"/>
            <a:ext cx="723888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d Radar Cross Section for V60 Wire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9120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imum Variation in Radar Cross Section with View 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928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60 Radar Cross Section Variation with Look Direction and Radar Frequ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58640" y="1654200"/>
            <a:ext cx="8380440" cy="4518000"/>
            <a:chOff x="458640" y="1654200"/>
            <a:chExt cx="8380440" cy="45180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6095880" y="3940200"/>
              <a:ext cx="274176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458640" y="1654200"/>
              <a:ext cx="274176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3278160" y="1654200"/>
              <a:ext cx="274176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4"/>
            <a:stretch/>
          </p:blipFill>
          <p:spPr>
            <a:xfrm>
              <a:off x="6097680" y="1654200"/>
              <a:ext cx="274140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5"/>
            <a:stretch/>
          </p:blipFill>
          <p:spPr>
            <a:xfrm>
              <a:off x="458640" y="3940200"/>
              <a:ext cx="274176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3276720" y="3940200"/>
              <a:ext cx="27414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534960" y="1684440"/>
              <a:ext cx="8380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 MH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52680" y="1684440"/>
              <a:ext cx="8384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3 MH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72200" y="1684440"/>
              <a:ext cx="8380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6 MH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4960" y="3970440"/>
              <a:ext cx="8380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 MH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52680" y="3970440"/>
              <a:ext cx="8384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3 MH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72200" y="3970440"/>
              <a:ext cx="8380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7 MH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73520" y="3559320"/>
              <a:ext cx="3045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91240" y="3559320"/>
              <a:ext cx="30492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510760" y="3559320"/>
              <a:ext cx="3045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73520" y="5845320"/>
              <a:ext cx="3045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91240" y="5845320"/>
              <a:ext cx="30492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510760" y="5845320"/>
              <a:ext cx="3045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44640" y="1684440"/>
              <a:ext cx="328680" cy="82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70640" y="1684440"/>
              <a:ext cx="328680" cy="82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77200" y="1684440"/>
              <a:ext cx="328680" cy="82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86920" y="3971880"/>
              <a:ext cx="328320" cy="82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0640" y="3978360"/>
              <a:ext cx="328680" cy="82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47880" y="3984480"/>
              <a:ext cx="328680" cy="82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58200" y="4143240"/>
              <a:ext cx="10652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dar Cross Section (m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98080" y="48960"/>
            <a:ext cx="690876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V60 Wire Frame Tuned for Minimum RCS Vari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4267080"/>
            <a:ext cx="4495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ed V60 Wire Fram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 to Vertex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Edges with Length 1,53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Edges with Length 2.2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Pentagons 9.03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Hexagons 9.34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334040" y="1209600"/>
            <a:ext cx="4781520" cy="56199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7240" y="1071720"/>
            <a:ext cx="428616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berman Sphere as Radar Calibration 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berman Associates, Inc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Worth Street, Suite 168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, NY 1001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: (212) 349 791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x: (212) 349 793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ssociates@hoberma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 and Tas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Structure Based on Transformable 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Radar Cross Section of Hoberman Sphere Wire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uct Sphere with Remote or Self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nch in Rocket or Space Shutt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rcRect l="0" t="12310" r="0" b="9742"/>
          <a:stretch/>
        </p:blipFill>
        <p:spPr>
          <a:xfrm>
            <a:off x="4648320" y="4724280"/>
            <a:ext cx="4190760" cy="2095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Bill Gates, center, flanked by University President Lee C. &#13;&#10;&#9;&#9;&#9;&#9;Bollinger, left, and Dean Zvi Galil, right."/>
          <p:cNvPicPr/>
          <p:nvPr/>
        </p:nvPicPr>
        <p:blipFill>
          <a:blip r:embed="rId3"/>
          <a:stretch/>
        </p:blipFill>
        <p:spPr>
          <a:xfrm>
            <a:off x="5029200" y="1609560"/>
            <a:ext cx="3429000" cy="26575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267080" y="428292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 Patent Number 4,942,700, Hoberman 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ersibly Expandable Double-Curved Truss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60 Radar Reflector with Two Scissors per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380880"/>
            <a:ext cx="5943600" cy="6446880"/>
            <a:chOff x="1219320" y="380880"/>
            <a:chExt cx="5943600" cy="644688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1219320" y="380880"/>
              <a:ext cx="5933880" cy="324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1228680" y="3581280"/>
              <a:ext cx="5934240" cy="32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g Limitations on Lifetime of 10 meter Spherical Radar Targ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85800" y="1316160"/>
            <a:ext cx="762012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rcRect l="0" t="0" r="0" b="2329"/>
          <a:stretch/>
        </p:blipFill>
        <p:spPr>
          <a:xfrm>
            <a:off x="263520" y="963720"/>
            <a:ext cx="4246560" cy="22143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cision Expandable Radar Calibration Sphere (PERCS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40120" y="1571400"/>
            <a:ext cx="412128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2880" indent="-272880"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Aspect Insensitive Target for Calibration of Ground HF Radars and HF High Power Transmit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24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ce Weather Radar Systems (SuperDAR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24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Frequency Active Auroral Research Program (HAAR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740840" y="1247760"/>
            <a:ext cx="324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IONAL CAPABILITY ADD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740120" y="3627360"/>
            <a:ext cx="321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 APPROACH and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257040" y="3627360"/>
            <a:ext cx="32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APPROACH and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4740120" y="3886200"/>
            <a:ext cx="40244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11240">
              <a:lnSpc>
                <a:spcPct val="90000"/>
              </a:lnSpc>
              <a:spcBef>
                <a:spcPts val="675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Demonstration in FY10 (36-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-171360">
              <a:lnSpc>
                <a:spcPct val="90000"/>
              </a:lnSpc>
              <a:spcBef>
                <a:spcPts val="675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/Modeling, MicroSat (1), and Radar and Laser Ground Data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-171360">
              <a:lnSpc>
                <a:spcPct val="90000"/>
              </a:lnSpc>
              <a:spcBef>
                <a:spcPts val="675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into High Inclination 600 km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-171360">
              <a:lnSpc>
                <a:spcPct val="90000"/>
              </a:lnSpc>
              <a:spcBef>
                <a:spcPts val="675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Five Years of On-Orbit Ops (Depends on Atmospheric Dra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90000"/>
              </a:lnSpc>
              <a:spcBef>
                <a:spcPts val="675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ables: Science &amp; Modeling; One 60 or 240 Vertex Hoberman Sphere; System Integration/Test; Ground Data/Process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90000"/>
              </a:lnSpc>
              <a:spcBef>
                <a:spcPts val="675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Vehicle by USAF/STP (Secondary Paylo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257040" y="3844800"/>
            <a:ext cx="435780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11240">
              <a:lnSpc>
                <a:spcPct val="90000"/>
              </a:lnSpc>
              <a:spcBef>
                <a:spcPts val="224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Calibration Target for HF Radar Systems in Low Earth Orbit with Known Radar Cross Section (R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 Deployment of Large Polyhedral Structure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Expanding Wire Frame using Hoberman Sphere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tmospheric Drag Using Open Frame Configuration with No Impact on RCS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line Design: 10 Meter Diameter Target with Operational Radio Frequencies Up to 40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3"/>
          <p:cNvSpPr/>
          <p:nvPr/>
        </p:nvSpPr>
        <p:spPr>
          <a:xfrm>
            <a:off x="285840" y="3165120"/>
            <a:ext cx="4216320" cy="258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HF Radar Calibration Target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4680" y="2467080"/>
            <a:ext cx="23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Deployment of a V60 </a:t>
            </a:r>
            <a:r>
              <a:rPr b="0" i="1" lang="en-US" sz="1400" spc="-1" strike="noStrike">
                <a:solidFill>
                  <a:srgbClr val="008000"/>
                </a:solidFill>
                <a:latin typeface="Arial"/>
              </a:rPr>
              <a:t>Hoberman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adar Calibration 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bration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: SuperDARN Radars and High Frequency Active Auroral Research Program (HAARP) Array Calib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ments: Absolute Radar Sensitivity and Absolute Range De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ing and Strength of High Latitude Field Aligned Irregula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actions of High Power Radio Waves in the Ionosphe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 of Electron Densities in Meteor Head Ech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 Range: 2.8 to 28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1 m Stowed Configuration less at La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10 m Diameter After 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 Section Accuracy Within 0.5 dB from Any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ar Orbit Inclination (&gt; 8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Earth Orbit (LEO, 600 to 1000 km Altitud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Life (&gt; 3 yea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: Precision Expandable Radar Calibration Sphere (PER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 Frame Hoberman 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, 240, or more Vert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CS Calibration of the NSF SuperDARN Radar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654880" y="27428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l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2400" y="248256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322360"/>
            <a:ext cx="19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t &amp; 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ow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6120" y="271116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rguel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3200" y="47606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73160" y="5256000"/>
            <a:ext cx="69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D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ernational Radar Network for Studying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's Upper Atmosphere, Ionosphere, and Connection into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516564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40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atit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8729400">
            <a:off x="1449360" y="-468000"/>
            <a:ext cx="8116200" cy="445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70" y="1043"/>
                </a:moveTo>
                <a:arcTo wR="10800" hR="10800" stAng="-6923068" swAng="3204355"/>
                <a:lnTo>
                  <a:pt x="10800" y="10800"/>
                </a:lnTo>
                <a:close/>
              </a:path>
              <a:path fill="none" w="21600" h="21600">
                <a:moveTo>
                  <a:pt x="6170" y="1043"/>
                </a:moveTo>
                <a:arcTo wR="10800" hR="10800" stAng="-6923068" swAng="3204355"/>
              </a:path>
            </a:pathLst>
          </a:custGeom>
          <a:noFill/>
          <a:ln w="2844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31399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PERCS Or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-906120" y="896760"/>
            <a:ext cx="9200880" cy="8300520"/>
            <a:chOff x="-906120" y="896760"/>
            <a:chExt cx="9200880" cy="830052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838080" y="160020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000160" y="1676520"/>
              <a:ext cx="104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King Salm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67640" y="1937880"/>
              <a:ext cx="85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Kodia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2640" y="2290680"/>
              <a:ext cx="102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ince Geor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3360" y="2895120"/>
              <a:ext cx="114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skato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49320" y="3312720"/>
              <a:ext cx="134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apuska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2720" y="398268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ose Ba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11680" y="4335120"/>
              <a:ext cx="111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tokksey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30600" y="4495320"/>
              <a:ext cx="122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þykkvybæ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0320" y="4190760"/>
              <a:ext cx="124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ankasalm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24040" y="516564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40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t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9500000">
              <a:off x="-363600" y="2821680"/>
              <a:ext cx="8116200" cy="445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170" y="1043"/>
                  </a:moveTo>
                  <a:arcTo wR="10800" hR="10800" stAng="-6923068" swAng="3204355"/>
                  <a:lnTo>
                    <a:pt x="10800" y="10800"/>
                  </a:lnTo>
                  <a:close/>
                </a:path>
                <a:path fill="none" w="21600" h="21600">
                  <a:moveTo>
                    <a:pt x="6170" y="1043"/>
                  </a:moveTo>
                  <a:arcTo wR="10800" hR="10800" stAng="-6923068" swAng="3204355"/>
                </a:path>
              </a:pathLst>
            </a:custGeom>
            <a:noFill/>
            <a:ln w="2844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0400" y="25909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3300"/>
                  </a:solidFill>
                  <a:latin typeface="Arial"/>
                </a:rPr>
                <a:t>PERCS Or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38080" y="61722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251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ERCS Operational Utility: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(1) Absolute System Calibration from 8 to 20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251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(2) Characterize Effects of Ionospheric Re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87480" y="2819520"/>
          <a:ext cx="18432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7480" y="2819520"/>
                    <a:ext cx="1843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283520" y="3048120"/>
          <a:ext cx="183960" cy="1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83520" y="3048120"/>
                    <a:ext cx="18396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urrently “Arbitrary Units” Used for All SuperDARN Observations of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ckscatter Power from Field Aligned Irregularities in the Ion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4647960"/>
            <a:ext cx="4267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S Calibration of SuperDARN Ra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Return Power 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 Measurements from one Experiment to the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5261"/>
          <a:stretch/>
        </p:blipFill>
        <p:spPr>
          <a:xfrm>
            <a:off x="533520" y="874800"/>
            <a:ext cx="3962160" cy="354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05520" y="838080"/>
            <a:ext cx="3817800" cy="2873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724280" y="3794040"/>
            <a:ext cx="4419720" cy="3063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410080" y="5454720"/>
            <a:ext cx="1371600" cy="642600"/>
          </a:xfrm>
          <a:prstGeom prst="rect">
            <a:avLst/>
          </a:prstGeom>
          <a:noFill/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ughes et al.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2895480"/>
            <a:ext cx="1752840" cy="368280"/>
          </a:xfrm>
          <a:prstGeom prst="rect">
            <a:avLst/>
          </a:prstGeom>
          <a:noFill/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ristow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26120" y="1981080"/>
            <a:ext cx="304560" cy="53352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3886200"/>
            <a:ext cx="304920" cy="91440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162000"/>
            <a:ext cx="85345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7520" bIns="47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AARP Instrument Experiments with the PER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04920" y="1434960"/>
            <a:ext cx="4595400" cy="4300200"/>
            <a:chOff x="304920" y="1434960"/>
            <a:chExt cx="4595400" cy="430020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304920" y="1434960"/>
              <a:ext cx="4595400" cy="43002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47" name=""/>
            <p:cNvSpPr/>
            <p:nvPr/>
          </p:nvSpPr>
          <p:spPr>
            <a:xfrm>
              <a:off x="2806200" y="3315240"/>
              <a:ext cx="150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HAARP Faci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411880" y="1447920"/>
            <a:ext cx="3257280" cy="4343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295280" y="1873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PERCS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 rot="17031000">
            <a:off x="3026880" y="3335040"/>
            <a:ext cx="268200" cy="557280"/>
          </a:xfrm>
          <a:prstGeom prst="triangle">
            <a:avLst>
              <a:gd name="adj" fmla="val 46241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869840" y="1447920"/>
            <a:ext cx="2320920" cy="4284720"/>
          </a:xfrm>
          <a:prstGeom prst="line">
            <a:avLst/>
          </a:prstGeom>
          <a:ln w="2844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12880" y="3139920"/>
            <a:ext cx="13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HAARP HF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5149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ARP Antenna Array Under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594360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ERCS Operational Ut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3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Absolute Calibration of HAARP Antenna Pattern from 2.8 to 10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3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Precise Measurements of Performance for HF Radars that Support HA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133720" y="2195640"/>
          <a:ext cx="488880" cy="47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195640"/>
                    <a:ext cx="4888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CS Applications for HAA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3429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 Antenna 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 System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aday Rotation Scatter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71520" y="1285920"/>
            <a:ext cx="8315280" cy="5191200"/>
            <a:chOff x="371520" y="1285920"/>
            <a:chExt cx="8315280" cy="5191200"/>
          </a:xfrm>
        </p:grpSpPr>
        <p:grpSp>
          <p:nvGrpSpPr>
            <p:cNvPr id="160" name=""/>
            <p:cNvGrpSpPr/>
            <p:nvPr/>
          </p:nvGrpSpPr>
          <p:grpSpPr>
            <a:xfrm>
              <a:off x="371520" y="1371240"/>
              <a:ext cx="8315280" cy="5105880"/>
              <a:chOff x="371520" y="1371240"/>
              <a:chExt cx="8315280" cy="5105880"/>
            </a:xfrm>
          </p:grpSpPr>
          <p:graphicFrame>
            <p:nvGraphicFramePr>
              <p:cNvPr id="161" name=""/>
              <p:cNvGraphicFramePr/>
              <p:nvPr/>
            </p:nvGraphicFramePr>
            <p:xfrm>
              <a:off x="371520" y="1600200"/>
              <a:ext cx="923760" cy="1009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71520" y="1600200"/>
                        <a:ext cx="923760" cy="100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3" name=""/>
              <p:cNvSpPr/>
              <p:nvPr/>
            </p:nvSpPr>
            <p:spPr>
              <a:xfrm>
                <a:off x="380880" y="6248520"/>
                <a:ext cx="8305920" cy="22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64" name=""/>
              <p:cNvGraphicFramePr/>
              <p:nvPr/>
            </p:nvGraphicFramePr>
            <p:xfrm>
              <a:off x="1362240" y="1600200"/>
              <a:ext cx="923760" cy="10098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362240" y="1600200"/>
                        <a:ext cx="923760" cy="100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66" name=""/>
              <p:cNvGraphicFramePr/>
              <p:nvPr/>
            </p:nvGraphicFramePr>
            <p:xfrm>
              <a:off x="2352600" y="1600200"/>
              <a:ext cx="924120" cy="10098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67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2352600" y="1600200"/>
                        <a:ext cx="924120" cy="100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68" name=""/>
              <p:cNvGraphicFramePr/>
              <p:nvPr/>
            </p:nvGraphicFramePr>
            <p:xfrm>
              <a:off x="3343320" y="1600200"/>
              <a:ext cx="923760" cy="10098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69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343320" y="1600200"/>
                        <a:ext cx="923760" cy="100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0" name=""/>
              <p:cNvGraphicFramePr/>
              <p:nvPr/>
            </p:nvGraphicFramePr>
            <p:xfrm>
              <a:off x="5324400" y="1600200"/>
              <a:ext cx="924120" cy="100980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171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324400" y="1600200"/>
                        <a:ext cx="924120" cy="100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2" name=""/>
              <p:cNvGraphicFramePr/>
              <p:nvPr/>
            </p:nvGraphicFramePr>
            <p:xfrm>
              <a:off x="6315120" y="1600200"/>
              <a:ext cx="923760" cy="10098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73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6315120" y="1600200"/>
                        <a:ext cx="923760" cy="100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4" name=""/>
              <p:cNvGraphicFramePr/>
              <p:nvPr/>
            </p:nvGraphicFramePr>
            <p:xfrm>
              <a:off x="7305840" y="1600200"/>
              <a:ext cx="923760" cy="100980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175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7305840" y="1600200"/>
                        <a:ext cx="923760" cy="100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6" name=""/>
              <p:cNvSpPr/>
              <p:nvPr/>
            </p:nvSpPr>
            <p:spPr>
              <a:xfrm flipV="1">
                <a:off x="4267080" y="1370880"/>
                <a:ext cx="1067040" cy="4876920"/>
              </a:xfrm>
              <a:prstGeom prst="triangle">
                <a:avLst>
                  <a:gd name="adj" fmla="val 50000"/>
                </a:avLst>
              </a:prstGeom>
              <a:solidFill>
                <a:srgbClr val="ff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572000" y="6172200"/>
                <a:ext cx="457200" cy="7632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8" name=""/>
              <p:cNvGraphicFramePr/>
              <p:nvPr/>
            </p:nvGraphicFramePr>
            <p:xfrm>
              <a:off x="4334040" y="1600200"/>
              <a:ext cx="923760" cy="10098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334040" y="1600200"/>
                        <a:ext cx="923760" cy="100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0" name=""/>
              <p:cNvSpPr/>
              <p:nvPr/>
            </p:nvSpPr>
            <p:spPr>
              <a:xfrm flipV="1">
                <a:off x="4800600" y="2590920"/>
                <a:ext cx="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800600" y="403812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38080" y="1600200"/>
                <a:ext cx="69343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1523880" y="12859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ERCS Or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505320" y="56386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ARP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9"/>
          <a:stretch/>
        </p:blipFill>
        <p:spPr>
          <a:xfrm>
            <a:off x="5135400" y="4648320"/>
            <a:ext cx="370368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adar Oblique Scatter from PERCS to Detect Two-Stream Instability W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2666880"/>
            <a:ext cx="9144000" cy="4191120"/>
            <a:chOff x="0" y="2666880"/>
            <a:chExt cx="9144000" cy="419112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rcRect l="20778" t="0" r="20787" b="61565"/>
            <a:stretch/>
          </p:blipFill>
          <p:spPr>
            <a:xfrm>
              <a:off x="0" y="2801880"/>
              <a:ext cx="9144000" cy="40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447920" y="43434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-Lay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00400" y="26668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120" y="3809880"/>
              <a:ext cx="1447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ectrojet Driven Wa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455616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round Rad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ar Backscatter from Metalized Spherical 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50520" y="-1141200"/>
            <a:ext cx="8161920" cy="7682400"/>
            <a:chOff x="650520" y="-1141200"/>
            <a:chExt cx="8161920" cy="7682400"/>
          </a:xfrm>
        </p:grpSpPr>
        <p:grpSp>
          <p:nvGrpSpPr>
            <p:cNvPr id="195" name=""/>
            <p:cNvGrpSpPr/>
            <p:nvPr/>
          </p:nvGrpSpPr>
          <p:grpSpPr>
            <a:xfrm>
              <a:off x="2867040" y="1066680"/>
              <a:ext cx="2174760" cy="2176200"/>
              <a:chOff x="2867040" y="1066680"/>
              <a:chExt cx="2174760" cy="2176200"/>
            </a:xfrm>
          </p:grpSpPr>
          <p:sp>
            <p:nvSpPr>
              <p:cNvPr id="196" name=""/>
              <p:cNvSpPr/>
              <p:nvPr/>
            </p:nvSpPr>
            <p:spPr>
              <a:xfrm>
                <a:off x="2867040" y="1066680"/>
                <a:ext cx="2174760" cy="2176200"/>
              </a:xfrm>
              <a:prstGeom prst="ellipse">
                <a:avLst/>
              </a:prstGeom>
              <a:noFill/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87560" y="1085400"/>
                <a:ext cx="2136600" cy="2136600"/>
              </a:xfrm>
              <a:prstGeom prst="ellipse">
                <a:avLst/>
              </a:pr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V="1">
              <a:off x="3423960" y="1517400"/>
              <a:ext cx="2667240" cy="2818800"/>
            </a:xfrm>
            <a:prstGeom prst="line">
              <a:avLst/>
            </a:prstGeom>
            <a:ln w="936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5800" y="322200"/>
              <a:ext cx="3653640" cy="365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42"/>
                  </a:moveTo>
                  <a:arcTo wR="10800" hR="10800" stAng="13380" swAng="53782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42"/>
                  </a:moveTo>
                  <a:arcTo wR="10800" hR="10800" stAng="13380" swAng="5378235"/>
                </a:path>
              </a:pathLst>
            </a:cu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56800" y="-42480"/>
              <a:ext cx="4388040" cy="438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906"/>
                  </a:moveTo>
                  <a:arcTo wR="10800" hR="10800" stAng="33776" swAng="5360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906"/>
                  </a:moveTo>
                  <a:arcTo wR="10800" hR="10800" stAng="33776" swAng="5360844"/>
                </a:path>
              </a:pathLst>
            </a:cu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96080" y="-403200"/>
              <a:ext cx="5119920" cy="512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6"/>
                  </a:moveTo>
                  <a:arcTo wR="10800" hR="10800" stAng="2058" swAng="5406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6"/>
                  </a:moveTo>
                  <a:arcTo wR="10800" hR="10800" stAng="2058" swAng="5406686"/>
                </a:path>
              </a:pathLst>
            </a:cu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27080" y="-773280"/>
              <a:ext cx="5851080" cy="585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20"/>
                  </a:moveTo>
                  <a:arcTo wR="10800" hR="10800" stAng="6455" swAng="53813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20"/>
                  </a:moveTo>
                  <a:arcTo wR="10800" hR="10800" stAng="6455" swAng="5381335"/>
                </a:path>
              </a:pathLst>
            </a:cu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7240" y="690480"/>
              <a:ext cx="2927160" cy="292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25"/>
                  </a:moveTo>
                  <a:arcTo wR="10800" hR="10800" stAng="8006" swAng="537822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25"/>
                  </a:moveTo>
                  <a:arcTo wR="10800" hR="10800" stAng="8006" swAng="5378221"/>
                </a:path>
              </a:pathLst>
            </a:cu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0520" y="-1141200"/>
              <a:ext cx="6591240" cy="65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79"/>
                  </a:moveTo>
                  <a:arcTo wR="10800" hR="10800" stAng="-6736" swAng="53941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79"/>
                  </a:moveTo>
                  <a:arcTo wR="10800" hR="10800" stAng="-6736" swAng="5394137"/>
                </a:path>
              </a:pathLst>
            </a:cu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681360" y="1749240"/>
              <a:ext cx="2666880" cy="2818800"/>
            </a:xfrm>
            <a:prstGeom prst="line">
              <a:avLst/>
            </a:prstGeom>
            <a:ln w="936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3946320" y="1988280"/>
              <a:ext cx="2666880" cy="2819160"/>
            </a:xfrm>
            <a:prstGeom prst="line">
              <a:avLst/>
            </a:prstGeom>
            <a:ln w="936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219560" y="2235960"/>
              <a:ext cx="2666880" cy="2819160"/>
            </a:xfrm>
            <a:prstGeom prst="line">
              <a:avLst/>
            </a:prstGeom>
            <a:ln w="936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492440" y="2483640"/>
              <a:ext cx="2666880" cy="2819160"/>
            </a:xfrm>
            <a:prstGeom prst="line">
              <a:avLst/>
            </a:prstGeom>
            <a:ln w="936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765680" y="2731320"/>
              <a:ext cx="2666880" cy="2819160"/>
            </a:xfrm>
            <a:prstGeom prst="line">
              <a:avLst/>
            </a:prstGeom>
            <a:ln w="936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038560" y="2979000"/>
              <a:ext cx="2666880" cy="2819160"/>
            </a:xfrm>
            <a:prstGeom prst="line">
              <a:avLst/>
            </a:prstGeom>
            <a:ln w="936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311440" y="3226680"/>
              <a:ext cx="2667240" cy="2819160"/>
            </a:xfrm>
            <a:prstGeom prst="line">
              <a:avLst/>
            </a:prstGeom>
            <a:ln w="936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584680" y="3474360"/>
              <a:ext cx="2666880" cy="2819160"/>
            </a:xfrm>
            <a:prstGeom prst="line">
              <a:avLst/>
            </a:prstGeom>
            <a:ln w="936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857560" y="3722040"/>
              <a:ext cx="2667240" cy="2819160"/>
            </a:xfrm>
            <a:prstGeom prst="line">
              <a:avLst/>
            </a:prstGeom>
            <a:ln w="936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6776640" y="1548720"/>
              <a:ext cx="1904760" cy="1752120"/>
            </a:xfrm>
            <a:prstGeom prst="line">
              <a:avLst/>
            </a:prstGeom>
            <a:ln w="936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83440" y="3247920"/>
              <a:ext cx="929520" cy="20883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2548800">
              <a:off x="6685560" y="218844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Incident Plane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3960000">
              <a:off x="4101840" y="4063680"/>
              <a:ext cx="190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Scatter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2133720"/>
            <a:ext cx="7905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51160" y="221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284280" y="2846520"/>
            <a:ext cx="14436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132000" y="3040200"/>
            <a:ext cx="144720" cy="185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08360" y="3068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0480" y="5334120"/>
            <a:ext cx="496872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m Spheroid Radar 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93640" y="1447920"/>
            <a:ext cx="794088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22:22:46Z</dcterms:created>
  <dc:creator>Paul A. Bernhardt</dc:creator>
  <dc:description/>
  <dc:language>en-US</dc:language>
  <cp:lastModifiedBy>Paul Bernhardt</cp:lastModifiedBy>
  <dcterms:modified xsi:type="dcterms:W3CDTF">2008-10-14T22:29:45Z</dcterms:modified>
  <cp:revision>15</cp:revision>
  <dc:subject/>
  <dc:title>Space-Based Calibration of NSF HF Radars  using the  Precision Expandable Radar Calibration Sphere (PERCS) </dc:title>
</cp:coreProperties>
</file>